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924-279A-4DC9-87F2-F238F7F57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91E-0236-4DDE-BAC4-35401A16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034F-EFBA-40AC-B886-E10DA479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9410-2A5E-4329-9372-577C7FBB1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CD4-EC5A-47A5-BA7C-33C4DEC6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F2F3-517D-480C-A7BD-56BAFC089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8921-D7BA-46E9-88D4-D3ED29C24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7E04-E8FA-40B1-8BAC-6328A9B46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AD6-8706-4A31-99C9-6648C273F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CD3E-AEA7-48DF-B29E-4E0F401D9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F2E-4681-4837-B7AE-293DCA39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D398-6F5A-455B-84BD-2B5275E9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68A2-EC4A-4DE1-B97D-806E68DFE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50F6-9FA0-4A8A-BC7E-A36BF92AD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E8ED-A057-408E-8D3B-05BD6DC8B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B456-F53C-4294-8D7D-EEB1A9E63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A6D-D6F4-428B-869D-82D9AC2E4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716F-6ABD-424B-96B2-6B5C714D8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7CA7-EFDC-4D34-8633-7BBB37FB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1363-3DC2-4544-A0F5-FC08D13F9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5D21-B0E3-41F7-AEE6-4354B2127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E5D6-BCB8-4083-BAD1-136D1BF85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2C18-2062-488B-B970-15E9D2B6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4672-13F5-4440-A032-E575E38900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06B8-4887-4EFA-9626-29D6659213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2E90-175C-4FAE-B057-B5106BA912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464B-AB3C-40A5-9D7D-FAFE232BDB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7E6D-10F4-462B-99EF-C860E5852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0E93-37F2-4E49-BFD2-A6E1582AC7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0476-AA60-4753-9959-78E32161A0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D461-D2E3-4F85-A2F4-07ECA679B4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7DA1-BAC3-4A56-ACE6-481D1CFE60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3EB2-CFDC-4C10-807F-A90E282E52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38A8-F358-45ED-996C-EC38D396BB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9259-21F2-4ECC-9D7E-89AFA8805C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AC8E-21A7-4C9A-A9DC-1B062BFE10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835C-7F5F-49A9-8E26-E5DC40627D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DF1E-8B37-486C-97D4-570C1AFC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DF14-18D0-4BD0-816F-0557D9BFFF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E0CF-8599-4529-9F7F-1D1FB67716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3447-DFF7-409E-B25B-9A2186B637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D128-C8D7-4CD6-8B2B-0690DFDEB6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5778-2CCC-43AC-9883-E87C6074A4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5006-0DF9-458A-86C6-239B90831B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F4B0-5114-4045-9332-63294EAD95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FDE3-B046-4157-93F1-158239E0EB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0C6A-4CDC-449A-80E8-72F32536E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085FE350-CA95-4D4B-AC7D-A95B45AE2DC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580678EC-ED28-492A-A89C-2AE5FB42D6A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21215231-0622-4D51-A1BC-2D80B42867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C9CD936B-D4C9-4A02-8382-C009E7B57DF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A33A669C-7B78-4782-8D0A-077D80327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ory and Practic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ndations for Effective Technology Integ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49528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Figure 2.9.pdf"/>
          <p:cNvPicPr/>
          <p:nvPr/>
        </p:nvPicPr>
        <p:blipFill>
          <a:blip r:embed="rId1"/>
          <a:srcRect l="8578" t="12633" r="39965" b="46669"/>
          <a:stretch/>
        </p:blipFill>
        <p:spPr>
          <a:xfrm>
            <a:off x="2133720" y="1143000"/>
            <a:ext cx="4886280" cy="4971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on technological pedagogical content knowledge (TPA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assess knowledge doma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technology (T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pedagogy (P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content (C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I see myself in the TPACK mod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relative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should I use a technology-based metho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nstructional problem I am address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technology-based methods offer a solution with sufficient relative advantag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de on objectives and assess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ill I know students have learn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outcomes do I expect from using new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best ways of assessing these outcom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teaching strategies and activities will work be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s of instructional methods are need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technology best support these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I prepare students adequately to use technolog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the instructio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essential conditions in place to support technology integr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equipment, software, media, and materials will I need to carry out instructional strateg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resources be arranged to support instruction and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planning is required to make sure technology resources work wel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and revise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orked well? What could be improv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ell has the technology integration strategy work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ould be improved to make it work bett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sential Conditions for Effective Technology Integr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Figure 2.10.jpg"/>
          <p:cNvPicPr/>
          <p:nvPr/>
        </p:nvPicPr>
        <p:blipFill>
          <a:blip r:embed="rId1"/>
          <a:stretch/>
        </p:blipFill>
        <p:spPr>
          <a:xfrm>
            <a:off x="609480" y="1523880"/>
            <a:ext cx="746784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red Vision for Technology Integr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rdinated school and district planning, and involve teachers and other personnel at all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 yearly amounts for technology purchases and make funding incremen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eacher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technology to curriculum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current and build in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owered Le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atic success with technology requires involvement of entire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keholders at all levels are informed about the goals of the community, district and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gredients for Successful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ndation of learning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pedagogical content knowledge (TPAC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Integration Planning Model (T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conditions for integ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ndards and Curriculum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and content-area standards support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S for Students situated t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both subject-area content and technology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ign with a shared vision to achieve 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red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 us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ble Use Policy (AU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al/ethical us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ies to insure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assistance, incentives, and accountability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cess to Hardware, Software, &amp; Other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 fu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chasing hardware and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ing up and maintaining physical fac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killed Personnel and Opportunities for P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s-on, integration emph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ing, mentoring, and co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-training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ical Assist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trained in troubleshoo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not expected to address complicated diagnostic and maintenance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s must support teachers by replacing and repairing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ppropriate Teaching and Assessment Approa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should be encouraged to use a variety of technology integration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ing strategies must be matched with appropriate assessment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gaged Comm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s are encouraged between schools, business, corporations and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s typically benefit all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6"/>
          <p:cNvGrpSpPr/>
          <p:nvPr/>
        </p:nvGrpSpPr>
        <p:grpSpPr>
          <a:xfrm>
            <a:off x="304920" y="-380880"/>
            <a:ext cx="8610120" cy="7772040"/>
            <a:chOff x="304920" y="-380880"/>
            <a:chExt cx="8610120" cy="7772040"/>
          </a:xfrm>
        </p:grpSpPr>
        <p:sp>
          <p:nvSpPr>
            <p:cNvPr id="177" name="AutoShape 5"/>
            <p:cNvSpPr/>
            <p:nvPr/>
          </p:nvSpPr>
          <p:spPr>
            <a:xfrm>
              <a:off x="304920" y="-380880"/>
              <a:ext cx="8610120" cy="77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9223"/>
            <p:cNvSpPr/>
            <p:nvPr/>
          </p:nvSpPr>
          <p:spPr>
            <a:xfrm>
              <a:off x="3605760" y="2582280"/>
              <a:ext cx="2008080" cy="18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Integra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9231"/>
            <p:cNvSpPr/>
            <p:nvPr/>
          </p:nvSpPr>
          <p:spPr>
            <a:xfrm flipH="1">
              <a:off x="2871000" y="3963960"/>
              <a:ext cx="86616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9230"/>
            <p:cNvSpPr/>
            <p:nvPr/>
          </p:nvSpPr>
          <p:spPr>
            <a:xfrm>
              <a:off x="997920" y="3966480"/>
              <a:ext cx="2008080" cy="1845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Direc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9227"/>
            <p:cNvSpPr/>
            <p:nvPr/>
          </p:nvSpPr>
          <p:spPr>
            <a:xfrm>
              <a:off x="5478840" y="3966480"/>
              <a:ext cx="86940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9226"/>
            <p:cNvSpPr/>
            <p:nvPr/>
          </p:nvSpPr>
          <p:spPr>
            <a:xfrm>
              <a:off x="6213240" y="3963960"/>
              <a:ext cx="2008080" cy="1845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nstructivi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_s9225"/>
            <p:cNvSpPr/>
            <p:nvPr/>
          </p:nvSpPr>
          <p:spPr>
            <a:xfrm flipV="1">
              <a:off x="4609800" y="1658880"/>
              <a:ext cx="0" cy="92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9224"/>
            <p:cNvSpPr/>
            <p:nvPr/>
          </p:nvSpPr>
          <p:spPr>
            <a:xfrm>
              <a:off x="3605760" y="-186120"/>
              <a:ext cx="2008080" cy="1845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rning Theories as Basis for Integration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ed Technology Integration Strategies Theoretical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ist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stimulus-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 F. Ski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stery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-processing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ind as a compu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kinson and Shiffr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nsory regis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ed Technology Integration Strategies Theoretical Ba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-behavioral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ing conditions for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bert Gagné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hierarchies and events of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s theory and systematic 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aging the complexity of teachin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quiry-based Technology Integration Strategies Theoretical Base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activism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social experi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Dewe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v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ffolding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cognitive building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v Vygots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one of proximal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quiry-based Technology Integration Strategies Theoretical Ba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 development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ges of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an Pia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 lear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support for child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rome Bru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Intelligences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le of intelligence in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ard Gard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Strategies Based on Each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29" descr=""/>
          <p:cNvPicPr/>
          <p:nvPr/>
        </p:nvPicPr>
        <p:blipFill>
          <a:blip r:embed="rId1"/>
          <a:stretch/>
        </p:blipFill>
        <p:spPr>
          <a:xfrm>
            <a:off x="0" y="1600200"/>
            <a:ext cx="8839080" cy="492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ical Pedagogical Content Knowledge Model (TPACK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Figure 2.8.jpg"/>
          <p:cNvPicPr/>
          <p:nvPr/>
        </p:nvPicPr>
        <p:blipFill>
          <a:blip r:embed="rId1"/>
          <a:srcRect l="19605" t="16767" r="13516" b="18481"/>
          <a:stretch/>
        </p:blipFill>
        <p:spPr>
          <a:xfrm>
            <a:off x="1523880" y="1523880"/>
            <a:ext cx="5658120" cy="464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7:59:06Z</dcterms:created>
  <dc:creator>Terence Cavanaugh</dc:creator>
  <dc:description/>
  <dc:language>en-US</dc:language>
  <cp:lastModifiedBy>UWALLHO</cp:lastModifiedBy>
  <dcterms:modified xsi:type="dcterms:W3CDTF">2009-08-14T18:24:54Z</dcterms:modified>
  <cp:revision>71</cp:revision>
  <dc:subject>Foundations of Effective Technology Models: Theory and Practice</dc:subject>
  <dc:title>Chapter 2</dc:title>
</cp:coreProperties>
</file>