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1BA6-B567-4522-8C08-506FC5E94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C9AD-CF5D-4FC9-946C-E126784B8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7761-91A0-417B-983D-6044D6A01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7CE1-B660-455C-8EE1-AEEF01716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B0D6-3F88-47A3-B9D8-8DEF52DA6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82F5-645B-435A-A1C8-36BF30A0B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A8A9-EE62-4FEC-B431-C53EEF783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9731-A222-4010-8E48-A2E00B359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9BA6-3197-482C-A427-BDAF1D663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AD3E-F739-447F-A6AA-0516C16F5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E8A6-E427-4723-ABCC-493C655D0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2E09-3967-46F5-B444-F6144BC58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62BC-1BB4-4A42-AA6E-2DF1AFCA4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CC69-4113-402A-8325-7C97F7662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CD09-F360-47E7-B933-DABB9111A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881B-018F-4128-8FF8-4ED089767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97BE-4782-4FDB-80B7-5C761819E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EC3D-5C0E-40EC-B998-2840E9C63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72A0-0A01-4946-886B-92ED8DBF3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CCBB-FAB9-4A72-89F6-D6819A4E4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A7F7-274A-4884-BD98-B0CFAD340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8EF3-D635-4CA1-8F6B-D859A4F63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2C33-7092-443D-8B11-656278703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132B-22F5-46BA-AA1E-76720120F8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726DE-FC79-4E2D-9868-2271D34C48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BA81-B17A-4395-8106-7FD9A4A115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5BE2-2C35-461E-B488-2C6A9481CB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B9F77-EB1E-4985-9898-945C662C57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71B5-A6E8-4FC3-AB2F-17643E14EA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2E1D-82A2-402E-9721-3D78699353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7BB38-F7C2-4D3A-B300-929F9741CD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2C2E7-37F8-4286-B2EE-27683AFEFA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92181-C713-483B-AC0D-DEE67A79E7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8871-1176-4BBE-A6CB-E0475076DE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F97C-D6E7-449B-87B5-BB0C8E891CD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1C464-54B7-426C-A43A-B383BEEC97D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F8521-2CC5-4A6C-A898-601EF338E27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5D7B8-08D8-454A-95C4-43C66C3F9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B53AB-614A-47A6-B85A-ECF660488D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0895C-A7A0-4DA5-A218-79E26422CDC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C0C9D-2C8D-43F7-9154-C3E764E9A12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36863-A75C-4202-8086-D66539BCA2A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813DA-4956-4A66-8E85-6909F9DE16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1B503-2A50-440A-9400-3D418663AAC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4951E-FE20-4B80-BD62-A8F002F4866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3FA2C-FDC9-41BD-9589-72221B60AC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7E020-B8C9-4FBC-8BEB-2FD363455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2.</a:t>
            </a:r>
            <a:fld id="{5DF97E8E-4CD2-423D-BA9A-5483354192CA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2.</a:t>
            </a:r>
            <a:fld id="{0E80ED27-4C1E-481F-B181-3D9C4DE78FEC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8CCC1130-837B-43CA-8217-B833BA967A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2.</a:t>
            </a:r>
            <a:fld id="{6298FEC7-D27E-4DDF-8F20-A54AA8B45127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4A64972E-CC66-415B-BE4A-3C12FC283C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hapter 2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ory and Practice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ndations for Effective Technology Integ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65372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0 Pearson Education, Inc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394840" y="6543720"/>
            <a:ext cx="596880" cy="222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35320" cy="1828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495288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public performance or display, including transmission of any image over a net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eparation of any derivative work, including the extraction, in whole or in part, of any imag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4" descr="Figure 2.9.pdf"/>
          <p:cNvPicPr/>
          <p:nvPr/>
        </p:nvPicPr>
        <p:blipFill>
          <a:blip r:embed="rId1"/>
          <a:srcRect l="8578" t="12633" r="39965" b="46669"/>
          <a:stretch/>
        </p:blipFill>
        <p:spPr>
          <a:xfrm>
            <a:off x="2133720" y="1143000"/>
            <a:ext cx="4886280" cy="4971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lect on technological pedagogical content knowledge (TPA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assess knowledge doma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my knowledge of technology (TK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my knowledge of pedagogy (PK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my knowledge of content (CK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do I see myself in the TPACK mode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mine relative advan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should I use a technology-based metho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instructional problem I am address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 technology-based methods offer a solution with sufficient relative advantag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de on objectives and assess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will I know students have learn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outcomes do I expect from using new method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the best ways of assessing these outcom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gn 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teaching strategies and activities will work be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kinds of instructional methods are need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can technology best support these method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can I prepare students adequately to use technologi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pare the instructional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essential conditions in place to support technology integra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equipment, software, media, and materials will I need to carry out instructional strategi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should resources be arranged to support instruction and lear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planning is required to make sure technology resources work wel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and revise 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orked well? What could be improv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well has the technology integration strategy work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could be improved to make it work bette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sential Conditions for Effective Technology Integratio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4" descr="Figure 2.10.jpg"/>
          <p:cNvPicPr/>
          <p:nvPr/>
        </p:nvPicPr>
        <p:blipFill>
          <a:blip r:embed="rId1"/>
          <a:stretch/>
        </p:blipFill>
        <p:spPr>
          <a:xfrm>
            <a:off x="609480" y="1523880"/>
            <a:ext cx="7467840" cy="4343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ared Vision for Technology Integr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ordinated school and district planning, and involve teachers and other personnel at all lev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dget yearly amounts for technology purchases and make funding incremen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hasize teacher trai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ch technology to curriculum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 current and build in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powered Lea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atic success with technology requires involvement of entire 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keholders at all levels are informed about the goals of the community, district and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62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gredients for Successful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ndation of learning theo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ology pedagogical content knowledge (TPACK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ology Integration Planning Model (TI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conditions for integ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ndards and Curriculum Suppor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ology and content-area standards support each 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S for Students situated to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both subject-area content and technology skil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ign with a shared vision to achieve go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quired Poli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net use poli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ptable Use Policy (AU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al/ethical use poli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cies to insure equ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ncial assistance, incentives, and accountability poli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ccess to Hardware, Software, &amp; Other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ing fu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rchasing hardware and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ting up and maintaining physical fac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stain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killed Personnel and Opportunities for P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s-on, integration empha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over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ing, mentoring, and coac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t-training 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chnical Assist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 trained in troubleshoo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 not expected to address complicated diagnostic and maintenance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ools must support teachers by replacing and repairing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ppropriate Teaching and Assessment Approa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 should be encouraged to use a variety of technology integration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ing strategies must be matched with appropriate assessment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gaged Commun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nerships are encouraged between schools, business, corporations and individu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nerships typically benefit all partn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6"/>
          <p:cNvGrpSpPr/>
          <p:nvPr/>
        </p:nvGrpSpPr>
        <p:grpSpPr>
          <a:xfrm>
            <a:off x="304920" y="-380880"/>
            <a:ext cx="8610120" cy="7772040"/>
            <a:chOff x="304920" y="-380880"/>
            <a:chExt cx="8610120" cy="7772040"/>
          </a:xfrm>
        </p:grpSpPr>
        <p:sp>
          <p:nvSpPr>
            <p:cNvPr id="177" name="AutoShape 5"/>
            <p:cNvSpPr/>
            <p:nvPr/>
          </p:nvSpPr>
          <p:spPr>
            <a:xfrm>
              <a:off x="304920" y="-380880"/>
              <a:ext cx="8610120" cy="77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_s9223"/>
            <p:cNvSpPr/>
            <p:nvPr/>
          </p:nvSpPr>
          <p:spPr>
            <a:xfrm>
              <a:off x="3605760" y="2582280"/>
              <a:ext cx="2008080" cy="18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Integra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_s9231"/>
            <p:cNvSpPr/>
            <p:nvPr/>
          </p:nvSpPr>
          <p:spPr>
            <a:xfrm flipH="1">
              <a:off x="2871000" y="3963960"/>
              <a:ext cx="86616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_s9230"/>
            <p:cNvSpPr/>
            <p:nvPr/>
          </p:nvSpPr>
          <p:spPr>
            <a:xfrm>
              <a:off x="997920" y="3966480"/>
              <a:ext cx="2008080" cy="18457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Direc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_s9227"/>
            <p:cNvSpPr/>
            <p:nvPr/>
          </p:nvSpPr>
          <p:spPr>
            <a:xfrm>
              <a:off x="5478840" y="3966480"/>
              <a:ext cx="869400" cy="45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_s9226"/>
            <p:cNvSpPr/>
            <p:nvPr/>
          </p:nvSpPr>
          <p:spPr>
            <a:xfrm>
              <a:off x="6213240" y="3963960"/>
              <a:ext cx="2008080" cy="18457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Constructivis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_s9225"/>
            <p:cNvSpPr/>
            <p:nvPr/>
          </p:nvSpPr>
          <p:spPr>
            <a:xfrm flipV="1">
              <a:off x="4609800" y="1658880"/>
              <a:ext cx="0" cy="922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_s9224"/>
            <p:cNvSpPr/>
            <p:nvPr/>
          </p:nvSpPr>
          <p:spPr>
            <a:xfrm>
              <a:off x="3605760" y="-186120"/>
              <a:ext cx="2008080" cy="1845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arning Theories as Basis for Integration Mode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rected Technology Integration Strategies Theoretical B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haviorist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rning as a stimulus-respon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. F. Skinn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stery lear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-processing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mind as a compu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kinson and Shiffr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nsory regis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rected Technology Integration Strategies Theoretical Bas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gnitive-behavioral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ing conditions for lear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obert Gagné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rning hierarchies and events of instru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s theory and systematic instructional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aging the complexity of teachin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quiry-based Technology Integration Strategies Theoretical Base</a:t>
            </a:r>
            <a:endParaRPr b="1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 activism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rning as a social experie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Dewe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tivis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affolding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rning as a cognitive building pro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v Vygotsk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one of proximal develop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quiry-based Technology Integration Strategies Theoretical Bas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ild development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ges of develop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ean Pia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overy lear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tructional support for child develop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erome Brun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e Intelligences theo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ole of intelligence in lear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ward Gardn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y Integration Strategies Based on Each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29" descr=""/>
          <p:cNvPicPr/>
          <p:nvPr/>
        </p:nvPicPr>
        <p:blipFill>
          <a:blip r:embed="rId1"/>
          <a:stretch/>
        </p:blipFill>
        <p:spPr>
          <a:xfrm>
            <a:off x="0" y="1600200"/>
            <a:ext cx="8839080" cy="4923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ical Pedagogical Content Knowledge Model (TPACK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4" descr="Figure 2.8.jpg"/>
          <p:cNvPicPr/>
          <p:nvPr/>
        </p:nvPicPr>
        <p:blipFill>
          <a:blip r:embed="rId1"/>
          <a:srcRect l="19605" t="16767" r="13516" b="18481"/>
          <a:stretch/>
        </p:blipFill>
        <p:spPr>
          <a:xfrm>
            <a:off x="1523880" y="1523880"/>
            <a:ext cx="5658120" cy="4648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17:59:06Z</dcterms:created>
  <dc:creator>Terence Cavanaugh</dc:creator>
  <dc:description/>
  <dc:language>en-US</dc:language>
  <cp:lastModifiedBy>UWALLHO</cp:lastModifiedBy>
  <dcterms:modified xsi:type="dcterms:W3CDTF">2009-08-14T18:24:54Z</dcterms:modified>
  <cp:revision>71</cp:revision>
  <dc:subject>Foundations of Effective Technology Models: Theory and Practice</dc:subject>
  <dc:title>Chapter 2</dc:title>
</cp:coreProperties>
</file>