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E0C5-A041-43DE-AE5B-A39041AD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2424-F114-4BAB-9463-FCE6B01A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CF94-F2A2-421E-8C1E-490C6E77B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617-35DE-4D05-B62D-F97A67DB5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EFD2-5DA8-4922-895B-0805DD16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BA1A-CB9B-45D3-B729-36F8D7E69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35E2-DE24-445B-A047-F570CD8FB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4286-78A2-4133-BA03-5D840209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AA1E-8DED-41A9-8F73-9801E969B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D3D5-1B66-4302-B6BC-00D4F0A6E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8865-EF8F-4850-8E9F-0531D15BF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482E-F610-4731-8A1E-B88126DF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E99B-9AA6-4C69-A8FF-097D79992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6D7D-0892-4C09-8DF1-71F24E0F2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200D-FAA6-4766-AE32-CCCD9F397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B903-5A7F-4905-9F52-B877E2DF3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E106-475C-4540-9563-312B2E222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69AA-2F47-4F4E-8777-BFE83A746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33B-1235-49C6-8880-9C6B67E68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44F-92E5-4F76-BE4D-4960A2659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E6AA-FE59-4903-A281-DAB213B54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635D-7475-474F-B0CB-63D31462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17A7-8ED2-4C42-88D9-236647FD8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BFC2-56EE-4842-B9E8-559098E84E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EC8C-A767-4ECB-B713-A2F9496F0BD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BA0C-32A5-4FA7-A725-59CC9F26E2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E80B-FA92-4D29-9472-F7C6FC42EC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540E-F87B-4665-A4A7-340C82226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5EA6-D21C-4BBE-ACE0-DE5BDAABEB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2E09-1D36-49E7-BC30-C4ED46C07D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790-6E11-4D81-B20B-C239842C25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C53A-FB50-42B4-AFD3-41D80E1AF6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A84E-2F8E-4782-9DC7-3B0DF60BC1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4DB3-69A4-47C7-BE9D-7D9A5DC7C1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8E9D-A4E5-4D86-9D13-2B2399C5D5D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2FE4-0297-4C1F-AA70-566D1DD99B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550BB-83AA-4F8C-AC4C-E37BD80945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1B89-8831-41F2-B9BE-6483984E3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96B0-4FA4-46C9-9B5A-F61C9F7903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85E9-A2F9-421E-8CE2-3AF06D4379B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4B6FD-D22D-4DAB-8B7A-68BB659832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72D9-4D65-44F8-B983-9AA32DA8A5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C2C25-74CE-4710-97E3-8346AAE9AC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3010-068C-4C74-BD76-729DBE1F73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900E-785C-4555-8DBE-E4FFEF35ED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23F1-8D87-4424-975F-9A76A015F2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9232-F20C-4CF4-AE79-19946B9E0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C0ADFCCE-5489-4F3F-BF4E-CF407250B40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5404639C-DA83-4FD8-B6BF-AAF535C1BA0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F883748-747B-40CF-ADE3-F685724BA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2.</a:t>
            </a:r>
            <a:fld id="{51933327-2403-4AB9-9A27-AF1A25426E2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10AF9EFA-EAD0-4FAD-8C6D-67DEAFC605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2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ory and Practic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oundations for Effective Technology Integ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49528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Figure 2.9.pdf"/>
          <p:cNvPicPr/>
          <p:nvPr/>
        </p:nvPicPr>
        <p:blipFill>
          <a:blip r:embed="rId1"/>
          <a:srcRect l="8578" t="12633" r="39965" b="46669"/>
          <a:stretch/>
        </p:blipFill>
        <p:spPr>
          <a:xfrm>
            <a:off x="2133720" y="1143000"/>
            <a:ext cx="4886280" cy="4971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 technological pedagogical content knowledge (TPA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assess knowledge doma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technology (T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pedagogy (P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my knowledge of content (CK)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do I see myself in the TPACK mode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ermine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should I use a technology-based metho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nstructional problem I am address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 technology-based methods offer a solution with sufficient relative advantag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de on objectives and assess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will I know students have learn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outcomes do I expect from using new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best ways of assessing these outcom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gn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teaching strategies and activities will work be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kinds of instructional methods are need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technology best support these method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can I prepare students adequately to use technolo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the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 essential conditions in place to support technology integra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equipment, software, media, and materials will I need to carry out instructional strateg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should resources be arranged to support instruction and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planning is required to make sure technology resources work wel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chnology Integration Planning (T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ase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and revise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orked well? What could be improv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well has the technology integration strategy work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could be improved to make it work bett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sential Conditions for Effective Technology Integr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Figure 2.10.jpg"/>
          <p:cNvPicPr/>
          <p:nvPr/>
        </p:nvPicPr>
        <p:blipFill>
          <a:blip r:embed="rId1"/>
          <a:stretch/>
        </p:blipFill>
        <p:spPr>
          <a:xfrm>
            <a:off x="609480" y="1523880"/>
            <a:ext cx="7467840" cy="4343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ared Vision for Technology Integr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rdinated school and district planning, and involve teachers and other personnel at all lev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 yearly amounts for technology purchases and make funding incremen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eacher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echnology to curriculum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current and build in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owered Le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atic success with technology requires involvement of entire 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keholders at all levels are informed about the goals of the community, district and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gredients for Successful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ation of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pedagogical content knowledge (TPAC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Integration Planning Model (T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conditions for integ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s and Curriculum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ology and content-area standards support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S for Students situated t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ort both subject-area content and technology 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gn with a shared vision to achieve go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quired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et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ble Use Policy (A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al/ethical use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ies to insure equ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assistance, incentives, and accountability poli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 to Hardware, Software, &amp; Other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ing fun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chasing hardware and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ting up and maintaining physical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killed Personnel and Opportunities for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s-on, integration emph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ing, mentoring, and co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-training 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Assist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trained in troubleshoo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not expected to address complicated diagnostic and maintenance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ools must support teachers by replacing and repairing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ppropriate Teaching and Assessment Approa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 should be encouraged to use a variety of technology integration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ing strategies must be matched with appropriate assessment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sential Conditions for Technology Integ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gaged Comm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are encouraged between schools, business, corporations and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nerships typically benefit all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6"/>
          <p:cNvGrpSpPr/>
          <p:nvPr/>
        </p:nvGrpSpPr>
        <p:grpSpPr>
          <a:xfrm>
            <a:off x="304920" y="-380880"/>
            <a:ext cx="8610120" cy="7772040"/>
            <a:chOff x="304920" y="-380880"/>
            <a:chExt cx="8610120" cy="7772040"/>
          </a:xfrm>
        </p:grpSpPr>
        <p:sp>
          <p:nvSpPr>
            <p:cNvPr id="177" name="AutoShape 5"/>
            <p:cNvSpPr/>
            <p:nvPr/>
          </p:nvSpPr>
          <p:spPr>
            <a:xfrm>
              <a:off x="304920" y="-380880"/>
              <a:ext cx="8610120" cy="77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_s9223"/>
            <p:cNvSpPr/>
            <p:nvPr/>
          </p:nvSpPr>
          <p:spPr>
            <a:xfrm>
              <a:off x="3605760" y="2582280"/>
              <a:ext cx="2008080" cy="1845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Integra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_s9231"/>
            <p:cNvSpPr/>
            <p:nvPr/>
          </p:nvSpPr>
          <p:spPr>
            <a:xfrm flipH="1">
              <a:off x="2871000" y="3963960"/>
              <a:ext cx="866160" cy="46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_s9230"/>
            <p:cNvSpPr/>
            <p:nvPr/>
          </p:nvSpPr>
          <p:spPr>
            <a:xfrm>
              <a:off x="997920" y="396648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Direct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_s9227"/>
            <p:cNvSpPr/>
            <p:nvPr/>
          </p:nvSpPr>
          <p:spPr>
            <a:xfrm>
              <a:off x="5478840" y="3966480"/>
              <a:ext cx="86940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_s9226"/>
            <p:cNvSpPr/>
            <p:nvPr/>
          </p:nvSpPr>
          <p:spPr>
            <a:xfrm>
              <a:off x="6213240" y="3963960"/>
              <a:ext cx="2008080" cy="18457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Constructivis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_s9225"/>
            <p:cNvSpPr/>
            <p:nvPr/>
          </p:nvSpPr>
          <p:spPr>
            <a:xfrm flipV="1">
              <a:off x="4609800" y="1658880"/>
              <a:ext cx="0" cy="922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_s9224"/>
            <p:cNvSpPr/>
            <p:nvPr/>
          </p:nvSpPr>
          <p:spPr>
            <a:xfrm>
              <a:off x="3605760" y="-186120"/>
              <a:ext cx="2008080" cy="1845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ies as Basis for Integra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havioris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timulus-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. F. Skin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stery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-process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mind as a compu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kinson and Shiffr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nsory regis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rect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-behavioral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ing conditions for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bert Gagné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hierarchies and events of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s theory and systematic 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aging the complexity of teachin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vism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social experi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Dewe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vis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ffolding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ing as a cognitive building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v Vygots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Zone of proximal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quiry-based Technology Integration Strategies Theoretical Bas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ild development the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ges of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an Pia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overy lear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upport for child develo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rome Bru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Intelligences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ole of intelligence in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ard Gardn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Strategies Based on Each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1"/>
          <a:stretch/>
        </p:blipFill>
        <p:spPr>
          <a:xfrm>
            <a:off x="0" y="1600200"/>
            <a:ext cx="8839080" cy="4923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ical Pedagogical Content Knowledge Model (TPACK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Figure 2.8.jpg"/>
          <p:cNvPicPr/>
          <p:nvPr/>
        </p:nvPicPr>
        <p:blipFill>
          <a:blip r:embed="rId1"/>
          <a:srcRect l="19605" t="16767" r="13516" b="18481"/>
          <a:stretch/>
        </p:blipFill>
        <p:spPr>
          <a:xfrm>
            <a:off x="1523880" y="1523880"/>
            <a:ext cx="5658120" cy="464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7:59:06Z</dcterms:created>
  <dc:creator>Terence Cavanaugh</dc:creator>
  <dc:description/>
  <dc:language>en-US</dc:language>
  <cp:lastModifiedBy>UWALLHO</cp:lastModifiedBy>
  <dcterms:modified xsi:type="dcterms:W3CDTF">2009-08-14T18:24:54Z</dcterms:modified>
  <cp:revision>71</cp:revision>
  <dc:subject>Foundations of Effective Technology Models: Theory and Practice</dc:subject>
  <dc:title>Chapter 2</dc:title>
</cp:coreProperties>
</file>