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C71-D20F-4F3F-A762-1795BA65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AAB-067F-415F-9BAF-5CD61D5AE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E1FF-A155-426C-AFDA-25F9EF7CF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D3FC-AE4B-4659-9FD7-5DE3DC545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4C7-F301-4E0C-B64E-B0E25D9E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1FC-7AE0-422A-B432-4526074C1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9783-19A1-40E0-B8BB-23BFBA215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DD7-EA9D-43A7-9B36-299BB426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1994-568A-4E22-B778-93CAC050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590B-A302-46C7-B62D-3B20DFE2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5C44-521C-46DD-ABA6-E6600EB8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B64D-B727-45BE-B810-28AA1B5C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429A-4CBE-414C-84FD-C59A42471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FBA-4040-4656-9601-AD9755CE1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987-A468-4673-ABD0-96CA1489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F2BF-D604-4A72-A8B1-427FBB0B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75EF-AAF5-4A98-90D6-D3843A58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95B-207A-40CF-BE62-66A6D6C00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980B-5146-431D-9F64-E7F1C0CE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83D-BDD0-4296-825B-100E63DD1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C5B3-19CE-43FD-AC3D-D2ED3216E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CB2-4309-49FB-9EE9-2AD767ED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8AE-94C2-4ACD-93DD-04D02AE5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1FC4-5F01-418D-88BC-46D56E92FB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704F-8006-4202-82F3-BB8A2D576A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C2B9-65BB-415D-BD56-B76A216586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2FCE-A280-4440-92C7-8FBEF3D2B2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7AF9-23F9-4127-8965-CA93EE0C81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7817-693A-44B3-9B2B-7A7A59AE14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EDCC-9DAD-4A5C-81FD-01193D526F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EBE1-7886-47F0-9D27-5D0A5412D7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31EB-F6D3-42F6-9968-FF9BDDB47C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2D76-21D3-46D5-8C2D-55D7A5C4A4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7D63-5045-4E6E-B912-149E4F1B03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7548-6EB0-4077-84BE-883253C887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FC82-8448-482E-8AA7-AEEAFEC791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AF18-D868-45D5-A10A-9E5ED418EE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2D40-2FA0-4D86-965C-6B0D28320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AA71-16F0-4B99-99B7-F91002D0AC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FB5A-6726-4683-91B2-D719F30FF5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38B0-73D9-40C7-A5BA-FA9835CE9C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7B06-6E60-4652-8584-4248E28874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6C59-3A23-43FE-8453-5DA20EDA1C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B090-A735-42F3-8354-8A9DD6D434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8619-ECA7-47C7-B232-A374EB9AD4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AAB9-9BA4-4148-8603-2091F724A5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FBB1-7035-4E2F-B596-2C4676D93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EB6C1DE1-6633-4F4B-A8D3-B8192483BAF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9F4B7093-BAA7-4FEB-8F9D-D19C7F363CEA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F1994758-3BB3-4304-9B02-2B5FCD87F3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6011B66E-1EB4-4B56-9070-56B1872E5C3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50029D5-0683-4FE6-8A56-1DAC050A9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ory and Practic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ndations for Effective Technology Integ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49528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Figure 2.9.pdf"/>
          <p:cNvPicPr/>
          <p:nvPr/>
        </p:nvPicPr>
        <p:blipFill>
          <a:blip r:embed="rId1"/>
          <a:srcRect l="8578" t="12633" r="39965" b="46669"/>
          <a:stretch/>
        </p:blipFill>
        <p:spPr>
          <a:xfrm>
            <a:off x="2133720" y="1143000"/>
            <a:ext cx="4886280" cy="497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 technological pedagogical content knowledge (TPA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assess knowledge doma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technology (T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pedagogy (P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content (C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I see myself in the TPACK mod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should I use a technology-based meth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nstructional problem I am address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echnology-based methods offer a solution with sufficient relative advanta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de on objectives and assess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ill I know students have learn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outcomes do I expect from using new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best ways of assessing these outcom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eaching strategies and activities will work be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instructional methods are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technology best support these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I prepare students adequately to use technolo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the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essential conditions in place to support technology integ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equipment, software, media, and materials will I need to carry out instructional strate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resources be arranged to support instruction and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lanning is required to make sure technology resources work wel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and revise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orked well? What could be improv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ell has the technology integration strategy work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uld be improved to make it work bet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sential Conditions for Effective Technology Integr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Figure 2.10.jpg"/>
          <p:cNvPicPr/>
          <p:nvPr/>
        </p:nvPicPr>
        <p:blipFill>
          <a:blip r:embed="rId1"/>
          <a:stretch/>
        </p:blipFill>
        <p:spPr>
          <a:xfrm>
            <a:off x="609480" y="1523880"/>
            <a:ext cx="746784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ed Vision for Technology Integ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rdinated school and district planning, and involve teachers and other personnel at all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 yearly amounts for technology purchases and make funding incremen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eacher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echnology to curriculum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current and build in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owered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atic success with technology requires involvement of entire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s at all levels are informed about the goals of the community, district and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gredients for Successful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ation of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pedagogical content knowledge (TP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Integration Planning Model (T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conditions for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s and Curriculum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and content-area standards support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S for Students situated 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both subject-area content and technology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gn with a shared vision to achieve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red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ble Use Policy (A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/ethical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ies to insure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ssistance, incentives, and accountability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 to Hardware, Software, &amp; Other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chasing hardware and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up and maintaining physical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lled Personnel and Opportunities for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s-on, integration emph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, mentoring, and co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-training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Assis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trained in troubleshoo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ot expected to address complicated diagnostic and maintenance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s must support teachers by replacing and repairing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ppropriate Teaching and Assessment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should be encouraged to use a variety of technology integration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ing strategies must be matched with appropriate assessment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gaged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are encouraged between schools, business, corporations and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typically benefit all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6"/>
          <p:cNvGrpSpPr/>
          <p:nvPr/>
        </p:nvGrpSpPr>
        <p:grpSpPr>
          <a:xfrm>
            <a:off x="304920" y="-380880"/>
            <a:ext cx="8610120" cy="7772040"/>
            <a:chOff x="304920" y="-380880"/>
            <a:chExt cx="8610120" cy="7772040"/>
          </a:xfrm>
        </p:grpSpPr>
        <p:sp>
          <p:nvSpPr>
            <p:cNvPr id="177" name="AutoShape 5"/>
            <p:cNvSpPr/>
            <p:nvPr/>
          </p:nvSpPr>
          <p:spPr>
            <a:xfrm>
              <a:off x="304920" y="-380880"/>
              <a:ext cx="8610120" cy="77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9223"/>
            <p:cNvSpPr/>
            <p:nvPr/>
          </p:nvSpPr>
          <p:spPr>
            <a:xfrm>
              <a:off x="3605760" y="2582280"/>
              <a:ext cx="2008080" cy="18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ntegr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9231"/>
            <p:cNvSpPr/>
            <p:nvPr/>
          </p:nvSpPr>
          <p:spPr>
            <a:xfrm flipH="1">
              <a:off x="2871000" y="3963960"/>
              <a:ext cx="86616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9230"/>
            <p:cNvSpPr/>
            <p:nvPr/>
          </p:nvSpPr>
          <p:spPr>
            <a:xfrm>
              <a:off x="997920" y="396648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Direc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9227"/>
            <p:cNvSpPr/>
            <p:nvPr/>
          </p:nvSpPr>
          <p:spPr>
            <a:xfrm>
              <a:off x="5478840" y="3966480"/>
              <a:ext cx="86940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9226"/>
            <p:cNvSpPr/>
            <p:nvPr/>
          </p:nvSpPr>
          <p:spPr>
            <a:xfrm>
              <a:off x="6213240" y="396396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nstructivi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9225"/>
            <p:cNvSpPr/>
            <p:nvPr/>
          </p:nvSpPr>
          <p:spPr>
            <a:xfrm flipV="1">
              <a:off x="4609800" y="1658880"/>
              <a:ext cx="0" cy="92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9224"/>
            <p:cNvSpPr/>
            <p:nvPr/>
          </p:nvSpPr>
          <p:spPr>
            <a:xfrm>
              <a:off x="3605760" y="-186120"/>
              <a:ext cx="2008080" cy="18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ies as Basis for Integra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is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timulus-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 F. Ski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tery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-process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ind as a compu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kinson and Shiffr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sory regis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-behavioral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ing conditions for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bert Gagn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hierarchies and events of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theory and systematic 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ging the complexity of teach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vism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ocial exper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Dew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v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ffold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cognitive building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v Vygots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one of proximal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 developmen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ges of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an Pia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upport for child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rome Bru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Intelligences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le of intelligence in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ard Gard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Strategies Based on Each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492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ical Pedagogical Content Knowledge Model (TPACK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Figure 2.8.jpg"/>
          <p:cNvPicPr/>
          <p:nvPr/>
        </p:nvPicPr>
        <p:blipFill>
          <a:blip r:embed="rId1"/>
          <a:srcRect l="19605" t="16767" r="13516" b="18481"/>
          <a:stretch/>
        </p:blipFill>
        <p:spPr>
          <a:xfrm>
            <a:off x="1523880" y="1523880"/>
            <a:ext cx="565812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7:59:06Z</dcterms:created>
  <dc:creator>Terence Cavanaugh</dc:creator>
  <dc:description/>
  <dc:language>en-US</dc:language>
  <cp:lastModifiedBy>UWALLHO</cp:lastModifiedBy>
  <dcterms:modified xsi:type="dcterms:W3CDTF">2009-08-14T18:24:54Z</dcterms:modified>
  <cp:revision>71</cp:revision>
  <dc:subject>Foundations of Effective Technology Models: Theory and Practice</dc:subject>
  <dc:title>Chapter 2</dc:title>
</cp:coreProperties>
</file>