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2628-002C-4166-B74E-78931AB88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9EF3-ADF4-4729-BB80-2A8006C72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B38B-FB3C-4A8F-AA15-057DA23B0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9C46-55B9-4C43-8B54-95D52CC50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BAB1-1513-4543-B607-57C43D535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C343-81B5-4A62-841C-D8D80F4A0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EA12-766E-43FA-B3DC-928CD5641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C82B-2B89-4E7F-B6EA-7570ED2EF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75DD-70F4-48B6-AB0B-A375B3D04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9DE4-60FE-4F01-A83F-7A948CFFF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0B59-0A90-4566-8270-6661875EF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3C57-F8FE-4A29-88A2-35346A0ED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6E00-FA70-4A5B-8D7F-E5DFCF20A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28A4-17D3-43DD-BB9A-7A4C021D1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0BB3-617C-471C-974E-BB6C4B540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EC79-2ECA-4FE4-A369-48FEB075D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2D9A-BC2E-4A33-9D97-2F2A0AE2B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D135-381D-4D38-B8D4-E02CA5778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9F88-7421-4BFA-A4C2-FB003373F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AE98-CEC7-40B3-8678-BA16935BC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3E6F-EE17-43C7-8963-6AFB6E8B1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FD43-3B4C-45D6-9CA5-B2B474823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01AC-8554-48FF-9D9D-64C0A956C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00E9-4380-4D70-B966-C06246FBB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9E90-58E9-4A90-9BCB-683EA24B6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5E583-16B6-410D-AD87-6DC89BB20A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545BF-93D7-44B6-A8B5-8582C86826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7E56F-5727-4CE1-A73A-4FB7E908B0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C8DBC-60E4-4C3F-A07D-711812B836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E7F23-3D68-4BC3-9538-76695701B5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FF97-AE22-4EE2-B21B-2E860D2D411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100A2-30B2-464D-A0F6-381D472F2A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D62EE-5AC8-44BD-8A8D-C3D466B2D2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755D7-13BF-4796-878F-F1D679AD60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B670E-A916-4BC4-A3FE-49C42CFFFA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27B26-D7F4-4382-80A1-5574BE7015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99CB5-547E-48F2-8FEA-77FBE87455E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35422-6579-4A77-8B51-D06DC7EA9E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F33FC-9956-4615-9A5B-9B5CBBCD07E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61418-2FE4-48DE-8645-452BEAAB3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0FEB1-CC3D-491F-9FF7-392A7F43AB0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F8507-740E-4237-9CF1-DDBD6A5D757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C1A17-423E-478D-9ECE-1F86153AE0A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F04C5-1E96-487B-AAA8-C7C7744D25A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BAA68-9D5D-4F27-BAE0-54C4163D01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D2AF6-7129-4C1B-91B1-10973D9B314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3842E-7702-484E-8F0F-FFE42D30AF2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31CD8-4C3A-4B0D-9C28-9720116CF72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E01A9-2686-4635-80C8-6AF241F1DEC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47A6-82A6-49CA-90D6-B8A15F785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ECCC-1739-4409-A25C-4848909DB18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4241-BB49-4D8E-8F0F-DB260EDF92F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C685-78B5-4CDC-96CE-D680440ED41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2B9F-D843-476A-A900-5DD8989104E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1C7D-2260-4D72-BAD9-9E9A8C24815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B451-F494-4752-8371-40E1153D1D8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97DB-14CB-4F7B-95D3-6D7245937BE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57C5-A2A7-4239-900D-77A6342F8C5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414C-915F-4AF8-BBD1-EA40CA087A8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4DB9-D769-4D96-8AB6-BE3C47731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4BCE-2F04-4737-921C-5C9B7C904BB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12FEB-27BA-4DBE-BE33-6D2689DDB96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A3E23-6A95-4F5D-903E-A14677FA8F2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C824A-C071-420A-BABC-F346180D54F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71897-A6C8-45D3-8D8D-7FB3668879B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7F16F-4050-432E-ABEE-C0BD66DA22C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52C0E-D4F9-473B-8882-D81D32E7AEA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8CFE7-1446-4C16-A673-99B100A11D9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B0017-108D-4A92-B1DC-2C011FD0A1D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6E722-4A21-43FA-9614-1E6C4E44D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A86B4-46FB-4F75-8FD5-CE620388697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8C934-DD80-4299-8F81-9FCB96B8AB6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4C3F7-BFA7-471D-AF4F-4CE7A9B74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3.</a:t>
            </a:r>
            <a:fld id="{AB7DE35E-1943-462F-853F-97FFD6F225DC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26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3.</a:t>
            </a:r>
            <a:fld id="{17A25B2F-7DA0-452C-9D2B-386C86A46F65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0DF065DB-39CA-4CE0-BD92-52EC555BB1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3.</a:t>
            </a:r>
            <a:fld id="{461180A8-2DDB-4E14-9621-242A5357C714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E556FAC5-7ECB-42DB-A8F4-F407B5283C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3.</a:t>
            </a:r>
            <a:fld id="{BA4B3511-A0F4-4CF2-B8DA-2F299D8AA608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E4AC2DF6-D83B-4C2D-A91F-D2EB1B1EBC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3.</a:t>
            </a:r>
            <a:fld id="{7D2E3E12-4D01-4C66-8A2E-BFA0CCF8EBA2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fld id="{4B3AEA32-5083-479D-B380-8D4B523506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valutech.sreb.org/" TargetMode="External"/><Relationship Id="rId2" Type="http://schemas.openxmlformats.org/officeDocument/2006/relationships/hyperlink" Target="http://www.clrn.org/home" TargetMode="External"/><Relationship Id="rId3" Type="http://schemas.openxmlformats.org/officeDocument/2006/relationships/hyperlink" Target="http://www.superkids.com/" TargetMode="External"/><Relationship Id="rId4" Type="http://schemas.openxmlformats.org/officeDocument/2006/relationships/hyperlink" Target="http://www.educationworld.com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Chapter 3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aching with Instructional Softwa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653724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10 Pearson Education, Inc.  All rights reserved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394840" y="6543720"/>
            <a:ext cx="596880" cy="222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35320" cy="1828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28600" y="4724280"/>
            <a:ext cx="8534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174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public performance or display, including transmission of any image over a network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eparation of any derivative work, including the extraction, in whole or in part, of any image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rill-and-Practi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nefi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mediate feedb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ving teacher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mitations and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ceived misu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iticism by constructivis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rill-and-Practi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ement or replace worksheets and homework exerci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pare for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idelines for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 time lim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individu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learning s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utoria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ear tuto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anching tuto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teria for Well-Designed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sive inter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orough user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ropriate pedag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equate answer-judging and feedb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ropriate graph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equate record kee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utoria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mediate feedb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sav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contained &amp; self-paced unit of instr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mitations and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iticism by constructiv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ck of good produ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lect only one instructional approa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utoria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paced revie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ive learning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ruction when teachers are unavai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idelines for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individu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learning stations or individual check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mul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er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tuati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teria for Well-Designed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fidelity and accur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od accompanying documentation to explain system characteristics and u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mul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ress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low down proc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t students involv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experimentation sa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impossible possi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e money and re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etition with vari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ation of complex proc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mitations and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uracy of mo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suse of simul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mul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305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lacement or supplement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 experi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le-play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eld tri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roducing or clarifying a new top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stering exploration &amp; process lear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ouraging cooperation and group 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mul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305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idelines for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equally effective with whole class, small groups, or individu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cularly good to instigate discussion and collaborative 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ually considered more appropriate for pairs and small grou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tructional Gam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ments of competition and challe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using or entertaining form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teria for Well-Designed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645080" y="2174760"/>
            <a:ext cx="41940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ealing formats and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ructional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sonable physical dexterity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, societal, and cultural consid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violence/aggre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chnology Integration Example: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Alien Rescue® Projec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7" descr="Page 74"/>
          <p:cNvPicPr/>
          <p:nvPr/>
        </p:nvPicPr>
        <p:blipFill>
          <a:blip r:embed="rId1"/>
          <a:srcRect l="0" t="-14725" r="0" b="-14725"/>
          <a:stretch/>
        </p:blipFill>
        <p:spPr>
          <a:xfrm>
            <a:off x="457200" y="11430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ases 1-2: TPACK &amp; relative advan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ase 3: Objectives and Assess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ase 4: 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ase 5: Instructional Envir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ase 6: Evaluate and Rev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tructional Gam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inter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eals to students’ desire to complete and pl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mitations and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rning versus having f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usion of game rules and real-life r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efficient lear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tructional Gam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place of worksheets and exerci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teach cooperative group working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a rew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idelines for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appropriate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olve all stud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phasize the content-area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blem Solv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ent-area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ent-free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teria for Well-Designed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llenging and interesting form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ear links to developing specific problem-solving skills or 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blem Solv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llenging activities increase interest and motiv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s inert knowledge by illustration situations in which skills app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mitations and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mes versus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 claims versus effective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sible negative effects of directed instr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f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blem Solv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 component skills in problem- solving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support in solving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ourage group problem solv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idelines for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ed teac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arly define skills and the teaching strate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ructivist approa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courage expl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struc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y amount of direction and assis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te ref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ess process over correct ans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ed Learning Systems (ILS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aracteristic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tworked or online system of instr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complete curricula on a top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nd provide reports on student prog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mmarize data by student, class, sch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teria for Well-Designed 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od curriculum cover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od pedagogical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ral different report form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sily read and interpreted re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ed Learning Systems (ILS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de supplemental educational services required by NCL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nefits of drill, tutorials, simulations, instructional games, and problem solving—depending on sel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sier to access via network or onli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rsonalized instru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mmary progress da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mitations and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arch on imp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rns about the role of 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ed Learning Systems (ILS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idelines for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ear prob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osed or open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ch scope and sequ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ch to target pop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equacy of reporting and management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st of hardware and software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educational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ILS updates from vend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e ILS for match with expec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personnel and fiscal imp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457200" y="2666880"/>
            <a:ext cx="4724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10000"/>
              </a:lnSpc>
              <a:buClr>
                <a:srgbClr val="000000"/>
              </a:buClr>
              <a:buFont typeface="Verdana"/>
              <a:buChar char="•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ed Learning Systems (ILS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ed appl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edi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stream delivery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ructivist appl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ource-rich environ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457200" y="2666880"/>
            <a:ext cx="4724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10000"/>
              </a:lnSpc>
              <a:buClr>
                <a:srgbClr val="000000"/>
              </a:buClr>
              <a:buFont typeface="Verdana"/>
              <a:buChar char="•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Reviews Onlin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REB EvaluTech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evalutech.sreb.or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fornia Learning Resource Network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www.clrn.org/ho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erKids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Verdana"/>
                <a:hlinkClick r:id="rId3"/>
              </a:rPr>
              <a:t>www.superkids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ucation World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Verdana"/>
                <a:hlinkClick r:id="rId4"/>
              </a:rPr>
              <a:t>www.educationworld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tructional Softwa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grams designed specifically to deliver or support one or more kinds of learning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tructional Software Func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ll-and-Practi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il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tori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deliver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ul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o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ctional G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il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o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blem Solvin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il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o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tructional Roles for Softwa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day’s software can be difficult to classif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different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lap of functions in one pack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 Language learning software might incorporat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ill activities (directed strateg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 solving &amp; gaming (constructivist strateg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arning Theory Connec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instructional software reflected behavioral and cognitive learning theo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functions (e.g., drill &amp; practice, tutorial) remain focused on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irect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ateg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ter software designed to support a constructivist approa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functions (e.g., simulation, games) can be used in either directed or constructivist way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gramming Languages as Instructional Softwa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ucational Programming Langu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tructional softwa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ol softwa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d to introduce young children to problem solving through programm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cent Trends in Software Design and Delive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ine access and compon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 2.0 technolo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ich user experi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newed emphasis on directed strategies and networked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grated learning systems (IL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rill-and-Practi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ash card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anching dri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sive feedback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teria for Well-Designed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4796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 over presentation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swer jud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ropriate feedback for correct &amp; incorrect answ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6:21:22Z</dcterms:created>
  <dc:creator>Terence W. Cavanaugh</dc:creator>
  <dc:description/>
  <dc:language>en-US</dc:language>
  <cp:lastModifiedBy>UWALLHO</cp:lastModifiedBy>
  <dcterms:modified xsi:type="dcterms:W3CDTF">2009-08-14T18:05:03Z</dcterms:modified>
  <cp:revision>118</cp:revision>
  <dc:subject>Integrating Instructional Software into Teaching and Learning</dc:subject>
  <dc:title>Chapter 3</dc:title>
</cp:coreProperties>
</file>