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dt" idx="6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 type="ftr" idx="7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 type="sldNum" idx="8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BF933-F689-41D5-A1E3-DB38B7B80D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073F5-8DA7-4735-9459-4538BD2E61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BFAA6-4764-488A-BEFE-96420A6B28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D8887-5422-4472-A8B3-187E82F10A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2F4F0-88B5-4974-864D-059338FB23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F9A4A-409C-4B3D-8EE8-BE60C5696C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BA23F-7A06-4968-B26D-0E8D992719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65B39-3543-4308-8D59-F3E2585BF4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C0340-64BA-4FC6-93EC-39702E3D33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80E38-878D-4002-9DA3-4D04AF17DE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7E978-8B17-49E2-997D-8AC7121AAA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8DF35-4CBF-4114-87F8-55E6E20297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D1061-1D68-4E6E-804A-A8CA52A24C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DA42F-BFBC-4392-9F93-F0E9E50C09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5B3B1-9825-460D-A9C1-D3F54BD95B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3F743-789A-46D5-BFAC-0B798BEF3D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E313B-25DA-47D7-9909-ED1B19EBB6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B32C5-DD67-464D-A82E-21247EABC7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E8084-3481-4A1D-AF23-9A35BD38D5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96F3E-70EF-4640-8CF8-EA69366FB4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714C6-252E-4A3C-9424-FA2D2F30A0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6526E-5D62-4283-9E0B-EDCEAB1D3F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0E0D5-01CD-431A-88AF-BECC9B48F0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AD19B-059C-4DA4-9354-A8E1BF8A79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FBBC5-2834-4E53-9AFD-083F85892B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6C6BE3-860E-40E6-8694-BAF45AEFEF5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76821E-7310-4D0C-9C25-15827498807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BEAF56-CBE9-42F4-896C-F22CA1C92B9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E6262A-174C-40DD-90D4-2D21493B4AF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A769C3-E88C-4C9A-9139-A228625E932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385C57-3DE5-48DC-BB9F-774A0635F62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C135CE-ABA3-4172-AE3D-BABEE4F9F30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4F3C54-4C18-41BF-B566-A94F2BBF743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92545C-55DB-4A70-9772-68B4E7B83E7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7B32AA-4AFF-4F5D-8109-3C3D640B62B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1F8407-5D9C-4289-BBB5-748C7623C52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67C4FF-E206-4621-9BB7-109E90D56868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4CB0B4-79FE-4D50-80A8-2421A46C063A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D94609-ACE3-4F04-AE80-D6BCEB191E33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651CE7-EC2F-4218-A55C-AB6AFB7384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190B75-9187-4B2B-9DAB-21FCF99FB95E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A35261-3C4E-476C-A040-24A189C7338A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629496-419C-4FF5-857C-621F3D6C6E1A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84F391-FEA5-467A-87E3-2E429762AB22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D4E53F-7ADA-4963-B93D-7963A4ED8FF5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982A6B-0EFB-4B3D-9503-8C1363C9A637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E0D135-90C4-49BD-AD00-64F0D5FC3BCA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33189B-CFB8-4A22-9EE1-7009B704C4B9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28360B-BAA5-4316-BF6D-D118D2614E04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EE0D6-59DF-4EBA-9B54-480FA7273F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F8473-09BC-4775-BCAC-CE7484F1D563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EF505-0463-4E9F-A947-CB8DC9D24E4D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8FEEB-1C33-427C-BDEA-AA07786AA0CF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A9727-321B-4607-9F47-AB682B8E40CA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C3357-70CE-4368-8727-8D228CBF9543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FF4B1-2F1F-4B55-AAD7-7272C038246F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85065-7B83-40CA-BB91-92FD1E2EC419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638CD-39A2-4339-9C4D-3F90546534D5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E686B-1EDE-4CAF-9447-4893563ED2E2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7B8B3-83A4-4013-8B9D-2A652A703E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A879B-3D60-4F76-9E5E-0CA12AD400B5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8387EB-7272-4887-A00F-5B129D28D593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F1D9F1-D639-4764-AF09-52060C6BAFD2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BBB676-AE21-4FEF-BEB0-D67677B2850E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F1CA01-FA55-4784-87E8-78FFA0CDA2C7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0D9E87-4EB7-4471-AC11-FF3A87CB3D3F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E9FFB3-28E9-4D0B-A43F-7543D2994774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60233C-37D7-486C-8180-14F18E5E4E86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2E313A-A665-4F25-8351-032C74455D25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4466CF-84A9-483E-9C00-B7BF996EB6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97031C-2832-401E-8109-6D167EC81FA6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6D5D02-1726-41A5-9E3B-863D6B9BE28E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8D3BE6-329B-432C-BD8D-784BEA4A24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CompanionWebSite Back"/>
          <p:cNvPicPr/>
          <p:nvPr/>
        </p:nvPicPr>
        <p:blipFill>
          <a:blip r:embed="rId2"/>
          <a:srcRect l="0" t="17280" r="0" b="0"/>
          <a:stretch/>
        </p:blipFill>
        <p:spPr>
          <a:xfrm>
            <a:off x="0" y="0"/>
            <a:ext cx="8839080" cy="66294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Rectangle 14"/>
          <p:cNvSpPr/>
          <p:nvPr/>
        </p:nvSpPr>
        <p:spPr>
          <a:xfrm>
            <a:off x="457200" y="6095880"/>
            <a:ext cx="8229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r" pos="804384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M. D. Roblyer &amp; Aaron H. Doering</a:t>
            </a:r>
            <a:r>
              <a:rPr b="0" lang="en-US" sz="900" spc="-1" strike="noStrike">
                <a:solidFill>
                  <a:srgbClr val="808080"/>
                </a:solidFill>
                <a:latin typeface="Verdana"/>
              </a:rPr>
              <a:t>  </a:t>
            </a:r>
            <a:r>
              <a:rPr b="0" i="1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Integrating Educational Technology into Teaching</a:t>
            </a:r>
            <a:r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, 5/E</a:t>
            </a:r>
            <a:br>
              <a:rPr sz="900"/>
            </a:br>
            <a:r>
              <a:rPr b="0" lang="en-US" sz="900" spc="-1" strike="noStrike">
                <a:solidFill>
                  <a:srgbClr val="808080"/>
                </a:solidFill>
                <a:latin typeface="Verdana"/>
              </a:rPr>
              <a:t>Copyright ©2010 by Pearson Education, Inc.</a:t>
            </a:r>
            <a:br>
              <a:rPr sz="900"/>
            </a:br>
            <a:r>
              <a:rPr b="0" lang="en-US" sz="900" spc="-1" strike="noStrike">
                <a:solidFill>
                  <a:srgbClr val="808080"/>
                </a:solidFill>
                <a:latin typeface="Verdana"/>
              </a:rPr>
              <a:t>All rights reserved.</a:t>
            </a:r>
            <a:r>
              <a:rPr b="0" i="1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 </a:t>
            </a:r>
            <a:r>
              <a:rPr b="0" i="1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	</a:t>
            </a:r>
            <a:r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3.</a:t>
            </a:r>
            <a:fld id="{D942ED6D-19EF-42DA-8AE5-5CCB9DC3914F}" type="slidenum"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1026" descr="CompanionWebSite Back"/>
          <p:cNvPicPr/>
          <p:nvPr/>
        </p:nvPicPr>
        <p:blipFill>
          <a:blip r:embed="rId2"/>
          <a:srcRect l="0" t="17280" r="0" b="0"/>
          <a:stretch/>
        </p:blipFill>
        <p:spPr>
          <a:xfrm>
            <a:off x="0" y="0"/>
            <a:ext cx="8839080" cy="662940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8" descr="CompanionWebSite Back"/>
          <p:cNvPicPr/>
          <p:nvPr/>
        </p:nvPicPr>
        <p:blipFill>
          <a:blip r:embed="rId2"/>
          <a:srcRect l="0" t="17280" r="0" b="0"/>
          <a:stretch/>
        </p:blipFill>
        <p:spPr>
          <a:xfrm>
            <a:off x="0" y="0"/>
            <a:ext cx="8839080" cy="662940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14"/>
          <p:cNvSpPr/>
          <p:nvPr/>
        </p:nvSpPr>
        <p:spPr>
          <a:xfrm>
            <a:off x="457200" y="6095880"/>
            <a:ext cx="8229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r" pos="804384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M. D. Roblyer</a:t>
            </a:r>
            <a:r>
              <a:rPr b="0" lang="en-US" sz="900" spc="-1" strike="noStrike">
                <a:solidFill>
                  <a:srgbClr val="808080"/>
                </a:solidFill>
                <a:latin typeface="Verdana"/>
              </a:rPr>
              <a:t>  </a:t>
            </a:r>
            <a:r>
              <a:rPr b="0" i="1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Integrating Educational Technology into Teaching</a:t>
            </a:r>
            <a:r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, 5/E</a:t>
            </a:r>
            <a:br>
              <a:rPr sz="900"/>
            </a:br>
            <a:r>
              <a:rPr b="0" lang="en-US" sz="900" spc="-1" strike="noStrike">
                <a:solidFill>
                  <a:srgbClr val="808080"/>
                </a:solidFill>
                <a:latin typeface="Verdana"/>
              </a:rPr>
              <a:t>Copyright ©2010 by Pearson Education, Inc.</a:t>
            </a:r>
            <a:br>
              <a:rPr sz="900"/>
            </a:br>
            <a:r>
              <a:rPr b="0" lang="en-US" sz="900" spc="-1" strike="noStrike">
                <a:solidFill>
                  <a:srgbClr val="808080"/>
                </a:solidFill>
                <a:latin typeface="Verdana"/>
              </a:rPr>
              <a:t>All rights reserved.</a:t>
            </a:r>
            <a:r>
              <a:rPr b="0" i="1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 </a:t>
            </a:r>
            <a:r>
              <a:rPr b="0" i="1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	</a:t>
            </a:r>
            <a:r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3.</a:t>
            </a:r>
            <a:fld id="{FE053E50-6A4B-48CD-86AE-4573FC2FCA4B}" type="slidenum"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fld id="{5DE2FA76-77E3-4EE3-8867-21F06E4612C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8" descr="CompanionWebSite Back"/>
          <p:cNvPicPr/>
          <p:nvPr/>
        </p:nvPicPr>
        <p:blipFill>
          <a:blip r:embed="rId2"/>
          <a:srcRect l="0" t="17280" r="0" b="0"/>
          <a:stretch/>
        </p:blipFill>
        <p:spPr>
          <a:xfrm>
            <a:off x="0" y="0"/>
            <a:ext cx="8839080" cy="66294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14"/>
          <p:cNvSpPr/>
          <p:nvPr/>
        </p:nvSpPr>
        <p:spPr>
          <a:xfrm>
            <a:off x="457200" y="6095880"/>
            <a:ext cx="8229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r" pos="804384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M. D. Roblyer</a:t>
            </a:r>
            <a:r>
              <a:rPr b="0" lang="en-US" sz="900" spc="-1" strike="noStrike">
                <a:solidFill>
                  <a:srgbClr val="808080"/>
                </a:solidFill>
                <a:latin typeface="Verdana"/>
              </a:rPr>
              <a:t>  </a:t>
            </a:r>
            <a:r>
              <a:rPr b="0" i="1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Integrating Educational Technology into Teaching</a:t>
            </a:r>
            <a:r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, 5/E</a:t>
            </a:r>
            <a:br>
              <a:rPr sz="900"/>
            </a:br>
            <a:r>
              <a:rPr b="0" lang="en-US" sz="900" spc="-1" strike="noStrike">
                <a:solidFill>
                  <a:srgbClr val="808080"/>
                </a:solidFill>
                <a:latin typeface="Verdana"/>
              </a:rPr>
              <a:t>Copyright ©2010 by Pearson Education, Inc.</a:t>
            </a:r>
            <a:br>
              <a:rPr sz="900"/>
            </a:br>
            <a:r>
              <a:rPr b="0" lang="en-US" sz="900" spc="-1" strike="noStrike">
                <a:solidFill>
                  <a:srgbClr val="808080"/>
                </a:solidFill>
                <a:latin typeface="Verdana"/>
              </a:rPr>
              <a:t>All rights reserved.</a:t>
            </a:r>
            <a:r>
              <a:rPr b="0" i="1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 </a:t>
            </a:r>
            <a:r>
              <a:rPr b="0" i="1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	</a:t>
            </a:r>
            <a:r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3.</a:t>
            </a:r>
            <a:fld id="{A1A4D100-1408-4706-97D5-A69ABC1A82AE}" type="slidenum"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fld id="{E4BB2106-CB3E-4041-938E-F6E41B66BC5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8" descr="CompanionWebSite Back"/>
          <p:cNvPicPr/>
          <p:nvPr/>
        </p:nvPicPr>
        <p:blipFill>
          <a:blip r:embed="rId2"/>
          <a:srcRect l="0" t="17280" r="0" b="0"/>
          <a:stretch/>
        </p:blipFill>
        <p:spPr>
          <a:xfrm>
            <a:off x="0" y="0"/>
            <a:ext cx="8839080" cy="662940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14"/>
          <p:cNvSpPr/>
          <p:nvPr/>
        </p:nvSpPr>
        <p:spPr>
          <a:xfrm>
            <a:off x="457200" y="6095880"/>
            <a:ext cx="8229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r" pos="804384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M. D. Roblyer</a:t>
            </a:r>
            <a:r>
              <a:rPr b="0" lang="en-US" sz="900" spc="-1" strike="noStrike">
                <a:solidFill>
                  <a:srgbClr val="808080"/>
                </a:solidFill>
                <a:latin typeface="Verdana"/>
              </a:rPr>
              <a:t>  </a:t>
            </a:r>
            <a:r>
              <a:rPr b="0" i="1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Integrating Educational Technology into Teaching</a:t>
            </a:r>
            <a:r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, 5/E</a:t>
            </a:r>
            <a:br>
              <a:rPr sz="900"/>
            </a:br>
            <a:r>
              <a:rPr b="0" lang="en-US" sz="900" spc="-1" strike="noStrike">
                <a:solidFill>
                  <a:srgbClr val="808080"/>
                </a:solidFill>
                <a:latin typeface="Verdana"/>
              </a:rPr>
              <a:t>Copyright ©2010 by Pearson Education, Inc.</a:t>
            </a:r>
            <a:br>
              <a:rPr sz="900"/>
            </a:br>
            <a:r>
              <a:rPr b="0" lang="en-US" sz="900" spc="-1" strike="noStrike">
                <a:solidFill>
                  <a:srgbClr val="808080"/>
                </a:solidFill>
                <a:latin typeface="Verdana"/>
              </a:rPr>
              <a:t>All rights reserved.</a:t>
            </a:r>
            <a:r>
              <a:rPr b="0" i="1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 </a:t>
            </a:r>
            <a:r>
              <a:rPr b="0" i="1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	</a:t>
            </a:r>
            <a:r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3.</a:t>
            </a:r>
            <a:fld id="{DA65FEF8-2846-4E42-BA01-65DD5495881E}" type="slidenum"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fld id="{8BCA6A9B-15F6-48D5-A926-5D53C4816E6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8" descr="CompanionWebSite Back"/>
          <p:cNvPicPr/>
          <p:nvPr/>
        </p:nvPicPr>
        <p:blipFill>
          <a:blip r:embed="rId2"/>
          <a:srcRect l="0" t="17280" r="0" b="0"/>
          <a:stretch/>
        </p:blipFill>
        <p:spPr>
          <a:xfrm>
            <a:off x="0" y="0"/>
            <a:ext cx="8839080" cy="6629400"/>
          </a:xfrm>
          <a:prstGeom prst="rect">
            <a:avLst/>
          </a:prstGeom>
          <a:ln w="0">
            <a:noFill/>
          </a:ln>
        </p:spPr>
      </p:pic>
      <p:sp>
        <p:nvSpPr>
          <p:cNvPr id="203" name="Rectangle 14"/>
          <p:cNvSpPr/>
          <p:nvPr/>
        </p:nvSpPr>
        <p:spPr>
          <a:xfrm>
            <a:off x="457200" y="6095880"/>
            <a:ext cx="8229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r" pos="804384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M. D. Roblyer</a:t>
            </a:r>
            <a:r>
              <a:rPr b="0" lang="en-US" sz="900" spc="-1" strike="noStrike">
                <a:solidFill>
                  <a:srgbClr val="808080"/>
                </a:solidFill>
                <a:latin typeface="Verdana"/>
              </a:rPr>
              <a:t>  </a:t>
            </a:r>
            <a:r>
              <a:rPr b="0" i="1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Integrating Educational Technology into Teaching</a:t>
            </a:r>
            <a:r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, 5/E</a:t>
            </a:r>
            <a:br>
              <a:rPr sz="900"/>
            </a:br>
            <a:r>
              <a:rPr b="0" lang="en-US" sz="900" spc="-1" strike="noStrike">
                <a:solidFill>
                  <a:srgbClr val="808080"/>
                </a:solidFill>
                <a:latin typeface="Verdana"/>
              </a:rPr>
              <a:t>Copyright ©2010 by Pearson Education, Inc.</a:t>
            </a:r>
            <a:br>
              <a:rPr sz="900"/>
            </a:br>
            <a:r>
              <a:rPr b="0" lang="en-US" sz="900" spc="-1" strike="noStrike">
                <a:solidFill>
                  <a:srgbClr val="808080"/>
                </a:solidFill>
                <a:latin typeface="Verdana"/>
              </a:rPr>
              <a:t>All rights reserved.</a:t>
            </a:r>
            <a:r>
              <a:rPr b="0" i="1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 </a:t>
            </a:r>
            <a:r>
              <a:rPr b="0" i="1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	</a:t>
            </a:r>
            <a:r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3.</a:t>
            </a:r>
            <a:fld id="{C22A6B51-C3DF-4132-B847-BB46201ACB22}" type="slidenum"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fld id="{870A8C18-6CC5-4795-9E7E-E24CE135B7A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www.evalutech.sreb.org/" TargetMode="External"/><Relationship Id="rId2" Type="http://schemas.openxmlformats.org/officeDocument/2006/relationships/hyperlink" Target="http://www.clrn.org/home" TargetMode="External"/><Relationship Id="rId3" Type="http://schemas.openxmlformats.org/officeDocument/2006/relationships/hyperlink" Target="http://www.superkids.com/" TargetMode="External"/><Relationship Id="rId4" Type="http://schemas.openxmlformats.org/officeDocument/2006/relationships/hyperlink" Target="http://www.educationworld.com/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5400" spc="-1" strike="noStrike">
                <a:solidFill>
                  <a:srgbClr val="000000"/>
                </a:solidFill>
                <a:latin typeface="Verdana"/>
              </a:rPr>
              <a:t>Chapter 3</a:t>
            </a:r>
            <a:endParaRPr b="1" lang="en-US" sz="5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1371600" y="3352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eaching with Instructional Softwar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"/>
          <p:cNvSpPr/>
          <p:nvPr/>
        </p:nvSpPr>
        <p:spPr>
          <a:xfrm>
            <a:off x="5334120" y="6537240"/>
            <a:ext cx="3581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© 2010 Pearson Education, Inc.  All rights reserved.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8394840" y="6543720"/>
            <a:ext cx="596880" cy="22212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2"/>
          <a:stretch/>
        </p:blipFill>
        <p:spPr>
          <a:xfrm>
            <a:off x="7467480" y="228600"/>
            <a:ext cx="1435320" cy="182880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228600" y="4724280"/>
            <a:ext cx="853452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343080" indent="-17496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This multimedia product and its contents are protected under copyright law. The following are prohibited by law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174960">
              <a:lnSpc>
                <a:spcPct val="80000"/>
              </a:lnSpc>
              <a:spcBef>
                <a:spcPts val="300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any public performance or display, including transmission of any image over a network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174960">
              <a:lnSpc>
                <a:spcPct val="80000"/>
              </a:lnSpc>
              <a:spcBef>
                <a:spcPts val="300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preparation of any derivative work, including the extraction, in whole or in part, of any image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174960">
              <a:lnSpc>
                <a:spcPct val="80000"/>
              </a:lnSpc>
              <a:spcBef>
                <a:spcPts val="300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any rental, lease, or lending of the program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Drill-and-Practic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Benefit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mmediate feedbac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otiv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aving teacher tim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6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Limitations and Proble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erceived misus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riticism by constructivist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Drill-and-Practic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tegration Strateg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pplement or replace worksheets and homework exercis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epare for tes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Guidelines for U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t time limi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ssign individuall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e learning sta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utorial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yp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inear tutori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ranching tutori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75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riteria for Well-Designed Progra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tensive interactiv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orough user contro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ppropriate pedagog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dequate answer-judging and feedbac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ppropriate graphic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dequate record keep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utorial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Benefi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mmediate feedbac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otiv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ime saving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lf-contained &amp; self-paced unit of instru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6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Limitations and Proble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riticism by constructivis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ack of good produc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flect only one instructional approac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utorial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tegration Strateg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lf-paced review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lternative learning strateg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struction when teachers are unavailab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Guidelines for U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ssign individuall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e learning stations or individual checkou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imulation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yp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hysic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terativ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cedur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tuation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75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riteria for Well-Designed Progra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ystem fidelity and accurac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ood accompanying documentation to explain system characteristics and us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imulation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Benefi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mpress ti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low down process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et students involv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ke experimentation saf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ke impossible possib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ave money and resourc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petition with varia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bservation of complex process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6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Limitations and Proble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ccuracy of model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isuse of simula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imulation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534680"/>
            <a:ext cx="83059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tegration Strateg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placement or supplement to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ab experiment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ole-playing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eld trip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troducing or clarifying a new topic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stering exploration &amp; process learn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ncouraging cooperation and group wor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imulation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534680"/>
            <a:ext cx="83059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Guidelines for U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n be equally effective with whole class, small groups, or individua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rticularly good to instigate discussion and collaborative wor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sually considered more appropriate for pairs and small group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Instructional Game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haracteristic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u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lements of competition and challeng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musing or entertaining forma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75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riteria for Well-Designed Progra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4645080" y="2174760"/>
            <a:ext cx="419400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ppealing formats and activi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structional valu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asonable physical dexterity requirem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ocial, societal, and cultural considera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inimal violence/aggress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echnology Integration Example: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he Alien Rescue® Project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8" name="Picture 7" descr="Page 74"/>
          <p:cNvPicPr/>
          <p:nvPr/>
        </p:nvPicPr>
        <p:blipFill>
          <a:blip r:embed="rId1"/>
          <a:srcRect l="0" t="-14725" r="0" b="-14725"/>
          <a:stretch/>
        </p:blipFill>
        <p:spPr>
          <a:xfrm>
            <a:off x="457200" y="11430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hases 1-2: TPACK &amp; relative advantag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hase 3: Objectives and Assessm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hase 4: Integration Strateg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hase 5: Instructional Environ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hase 6: Evaluate and Revi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Instructional Game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Benefi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igh interes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ten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ppeals to students’ desire to complete and pla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6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Limitations and Proble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earning versus having fu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fusion of game rules and real-life ru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efficient learn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Instructional Game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tegration Strateg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 place of worksheets and exercis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o teach cooperative group working skil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s a rewar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Guidelines for U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e appropriatel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volve all stud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mphasize the content-area skil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roblem Solving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yp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tent-area skil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tent-free skil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75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riteria for Well-Designed Progra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hallenging and interesting forma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ear links to developing specific problem-solving skills or abili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roblem Solving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Benefi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hallenging activities increase interest and motiv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events inert knowledge by illustration situations in which skills appl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6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Limitations and Proble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ames versus skil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oftware claims versus effectivenes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ossible negative effects of directed instru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ansfer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roblem Solving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tegration Strateg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ach component skills in problem- solving strateg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vide support in solving proble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ncourage group problem solv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Guidelines for U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rected teach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early define skills and the teaching strateg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structivist approac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ncourage explor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vide structu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ary amount of direction and assistan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mote refle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ress process over correct answe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Integrated Learning Systems (ILS)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haracteristic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etworked or online system of instru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vide complete curricula on a topic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onitor and provide reports on student progres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mmarize data by student, class, schoo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6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riteria for Well-Designed I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ood curriculum coverag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ood pedagogical strateg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ral different report forma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asily read and interpreted repor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Integrated Learning Systems (ILS)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Benefi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rovide supplemental educational services required by NCLB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enefits of drill, tutorials, simulations, instructional games, and problem solving—depending on selec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asier to access via network or onlin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ersonalized instruc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mmary progress data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6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Limitations and Proble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s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search on impac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cerns about the role of I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Integrated Learning Systems (ILS)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53468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Guidelines for U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ear proble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osed or open syste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tch scope and seque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tch to target popul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dequacy of reporting and management syste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st of hardware and software resour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ject educational benefi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btain ILS updates from vendo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valuate ILS for match with expecta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lculate personnel and fiscal impac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Rectangle 4"/>
          <p:cNvSpPr/>
          <p:nvPr/>
        </p:nvSpPr>
        <p:spPr>
          <a:xfrm>
            <a:off x="457200" y="2666880"/>
            <a:ext cx="472428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10000"/>
              </a:lnSpc>
              <a:buClr>
                <a:srgbClr val="000000"/>
              </a:buClr>
              <a:buFont typeface="Verdana"/>
              <a:buChar char="•"/>
              <a:tabLst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Integrated Learning Systems (ILS)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53468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tegration Strateg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457200" y="2174760"/>
            <a:ext cx="822960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rected applica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medi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instream delivery syste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structivist applica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source-rich environmen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Rectangle 3"/>
          <p:cNvSpPr/>
          <p:nvPr/>
        </p:nvSpPr>
        <p:spPr>
          <a:xfrm>
            <a:off x="457200" y="2666880"/>
            <a:ext cx="472428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10000"/>
              </a:lnSpc>
              <a:buClr>
                <a:srgbClr val="000000"/>
              </a:buClr>
              <a:buFont typeface="Verdana"/>
              <a:buChar char="•"/>
              <a:tabLst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oftware Reviews Onlin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REB EvaluTech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Verdana"/>
                <a:hlinkClick r:id="rId1"/>
              </a:rPr>
              <a:t>www.evalutech.sreb.or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lifornia Learning Resource Network 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Verdana"/>
                <a:hlinkClick r:id="rId2"/>
              </a:rPr>
              <a:t>www.clrn.org/ho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perKids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Verdana"/>
                <a:hlinkClick r:id="rId3"/>
              </a:rPr>
              <a:t>www.superkids.co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ducation World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Verdana"/>
                <a:hlinkClick r:id="rId4"/>
              </a:rPr>
              <a:t>www.educationworld.co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Instructional Softwar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grams designed specifically to deliver or support one or more kinds of learning activit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Instructional Software Function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rill-and-Practic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kill practi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utorial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formation delivery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mulation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monstr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plor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647960" y="1600200"/>
            <a:ext cx="4267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structional Gam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kill practi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plor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blem Solving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kill practi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plor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Instructional Roles for Softwar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day’s software can be difficult to classif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ral different activit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verlap of functions in one packag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xample: Language learning software might incorporate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rill activities (directed strategy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blem solving &amp; gaming (constructivist strategy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earning Theory Connection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rst instructional software reflected behavioral and cognitive learning theor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ome functions (e.g., drill &amp; practice, tutorial) remain focused on 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directed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ategi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ter software designed to support a constructivist approach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ome functions (e.g., simulation, games) can be used in either directed or constructivist way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rogramming Languages as Instructional Softwar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ducational Programming Languag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structional softwar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ool software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g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Used to introduce young children to problem solving through programming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Recent Trends in Software Design and Delivery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nline access and compon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eb 2.0 technolog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ich user experienc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newed emphasis on directed strategies and networked system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tegrated learning systems (ILS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Drill-and-Practic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yp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lash card activ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ranching dril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tensive feedback activi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75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riteria for Well-Designed Progra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64796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trol over presentation ra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swer jud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ppropriate feedback for correct &amp; incorrect answ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9T16:21:22Z</dcterms:created>
  <dc:creator>Terence W. Cavanaugh</dc:creator>
  <dc:description/>
  <dc:language>en-US</dc:language>
  <cp:lastModifiedBy>UWALLHO</cp:lastModifiedBy>
  <dcterms:modified xsi:type="dcterms:W3CDTF">2009-08-14T18:05:03Z</dcterms:modified>
  <cp:revision>118</cp:revision>
  <dc:subject>Integrating Instructional Software into Teaching and Learning</dc:subject>
  <dc:title>Chapter 3</dc:title>
</cp:coreProperties>
</file>