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95CC-BE30-4045-9896-BFB2215D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1A12-53BF-48ED-BDBD-A5910002D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8B4-96B1-43BC-9C16-9A3C14946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F808-FB4C-4DE1-A3CF-D9A6C1741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D38E-5B0E-4A8B-A78C-80F094259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2F83-EA2D-4AD4-AE95-E8B829B7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CE0F-7F73-4772-B542-BC691BE24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9C0E-DC56-4E5C-A96F-8532FA32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07D-FB60-42E4-A80D-9421C2936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DF0-9689-4E21-80C2-A2E77BFE6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F3EB-7E51-4056-9C61-C84599DC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E2BB-EA4B-4630-A5FB-E002473EB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7C3A-593D-4E55-8EE8-5CA5059D7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92D-8583-4423-ABF1-1D9FA17E9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5066-0BE7-4BB3-B18A-D5D205B3E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512-096D-469A-80D5-F2D5B6F6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B9EE-72E5-4C07-B35D-C70479DAA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EA9A-086C-4185-9705-44E6314F0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941D-7D92-4221-89D4-A1DD167AC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22C9-48DB-4348-99DA-5EF77D62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E1FA-D1B8-4B34-BE32-079037E9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8AA5-F6C3-4110-8C5D-18CF961B9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67A4-EB44-4C54-B9B4-68DD1773F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06B-7A15-4265-831A-F37355819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A287-1544-4FB9-8AC6-A206176A0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A483-8FDB-48F9-8F1E-4B9D3B15C8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9E69F-DCCE-44B2-9A94-D1C0F2D0B8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2585-F38E-4F5E-94A5-2A8661DF45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CE77-F9AC-4A3B-BCC9-1FB0F51358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7C62-F6E5-4BAC-B61F-691FDAF81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BC85-6897-4E30-8A3E-6EA179E589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96A1-11B1-4DF3-9970-6E1E9A1AFE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9573-E134-4D4E-9AAE-F0ABF7CD24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1C7C3-26B2-438B-9B71-33CA78E577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80B3-297A-4E62-87CF-0CD16A3130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DC32-AE47-4ED4-81B7-81F99C42B7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CE5D-DED6-4E07-BC97-0851EB0BB10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C3B8-C0EB-4C55-9086-1C21D08C5B6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D9C5-5ED3-4A26-8C35-80CB87C316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0CB5-6093-42CE-8991-3A81B067E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ED53-D483-4C0B-A5A4-FB3D0EF6B51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DAE5-1B9F-4229-926B-ACDBEA21CA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9B3A-83F1-4AC8-9716-867C983C45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C686-EE12-4E99-8BF2-CDE6F29535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A268-0787-4B61-806B-6CA1E6C029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F837-0172-4241-8C14-5D6CF7DBBE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392A-189B-4F57-999D-23A99EB50E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00F6-6CD1-40B1-BD8E-C4BDADBC93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2631-EBAD-46D8-8B5D-61DB687D7C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B7D-D03E-440A-AC58-2E0DC6D12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F22-087E-4CDB-A8A6-5E3CF59C75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1CD-38D5-4F7F-82E0-90C1DC36CD0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B9BB-4663-4631-9722-06EED5CE7A2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0D5-C723-4CD0-9D29-3F10C895BCA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57C-92F0-4BA9-8E47-849D3EC988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BC1-1BCE-4F3B-8D0A-18A547DEB20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D0B-047E-48CD-9CBB-2AEDC98293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6D8-886A-4E2B-9E1B-1CBC0CEFDB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D99-8DA8-4609-9A2B-8B127F50B0A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D5C-6B89-4007-AA30-DA4CAF30B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C45C-6762-44F1-867E-E270B8CE23D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7C99D-22CC-4F62-8F51-F3537A10227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9124D-0CE4-48D2-A811-F8F26D4028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DCF4-4CAE-4224-B423-086082EC2A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E302-9803-4433-830D-82487F04B3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9C99C-5951-4765-B894-F1157F1953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2D84-4366-40F7-995D-402CF4CFAF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58234-79CE-4FE0-AF9F-B678C89398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7FC63-4FC2-479F-8C3A-53979A47A5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EFED8-7769-419A-9828-153F36CFC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45A8C-9311-4986-A216-65A88ABF8BB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04B7D-6F2F-468E-AF66-56C7155DEEA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0CCDC-D8C2-4D7C-9D3D-5F2BFA683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F729CDB8-79F1-4FE1-882D-883824C8CBD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35E5A1D1-CE09-4778-AC78-CF3D88A2BA0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4966A8D-6334-4244-9B42-C9F2202A68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D718BE52-6C00-459C-B52C-0309004C8AF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CD9F8B86-9F32-4CC7-B300-EF80EE96AD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FFC964EB-6703-4BF0-ABDD-0E921320B2EA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6ECC402-EAD4-4CFA-9925-AFB420EAE7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3.</a:t>
            </a:r>
            <a:fld id="{5F3BA882-B1C7-44B4-9C09-C987ECC2C7D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0A519FAE-C844-4032-9E19-DF5068696F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evalutech.sreb.org/" TargetMode="External"/><Relationship Id="rId2" Type="http://schemas.openxmlformats.org/officeDocument/2006/relationships/hyperlink" Target="http://www.clrn.org/home" TargetMode="External"/><Relationship Id="rId3" Type="http://schemas.openxmlformats.org/officeDocument/2006/relationships/hyperlink" Target="http://www.superkids.com/" TargetMode="External"/><Relationship Id="rId4" Type="http://schemas.openxmlformats.org/officeDocument/2006/relationships/hyperlink" Target="http://www.educationworld.com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3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Instructional Softwa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ing teach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ived mis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ement or replace worksheets and homework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time lim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ear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tuto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inter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orough user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pedag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answer-judg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graph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te record kee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mediate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sav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contained &amp; self-paced unit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iticism by constructiv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ck of good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ct only one instructional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f-paced revie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ernative learn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 when teachers are un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learning stations or individual check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tuat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fidelity and accur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accompanying documentation to explain system characteristics and 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ss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low down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t students inv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experimentation sa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impossible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e money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tition with vari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servation of complex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uracy of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use of sim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lacement or supplement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experi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le-play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 tr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ing or clarifying a new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stering exploration &amp; process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cooperation and group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305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equally effective with whole class, small groups, or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ularly good to instigate discussion and collaborative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considered more appropriate for pairs and small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ments of competition and challe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using or entertain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645080" y="2174760"/>
            <a:ext cx="41940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ing formats and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sonable physical dexterity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, societal, and cultural consid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violence/agg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Alien Rescue® Proje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Page 74"/>
          <p:cNvPicPr/>
          <p:nvPr/>
        </p:nvPicPr>
        <p:blipFill>
          <a:blip r:embed="rId1"/>
          <a:srcRect l="0" t="-14725" r="0" b="-14725"/>
          <a:stretch/>
        </p:blipFill>
        <p:spPr>
          <a:xfrm>
            <a:off x="457200" y="114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als to students’ desire to complete and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versus having 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usion of game rules and real-life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efficient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lace of worksheets and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teach cooperative group work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a rew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appropriat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 all stud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area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ent-free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nd interesting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links to developing specific problem-solving skills or 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llenging activities increase interest and motiv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inert knowledge by illustration situations in which skills app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s versus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 claims versus effective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negative effects of directed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 component skills in problem- solving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support in solving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e group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arly define skills and the teaching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rage expl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y amount of direction and as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ref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process over correct 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tworked or online system of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omplete curricula on a top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nd provide reports on student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 data by student, class,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curriculum cove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pedagogic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different report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sily read and interpreted 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 supplemental educational services required by NCL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nefits of drill, tutorials, simulations, instructional games, and problem solving—depending on sel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ier to access via network or on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sonalized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mary progress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 and Probl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rns about the role of 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uidelines fo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prob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d or op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scope and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 to target pop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equacy of reporting and management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of hardware and software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 education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ILS updates from vend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te ILS for match with expec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personnel and fisc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ed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edi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stream delivery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ructivist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ource-rich environ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457200" y="2666880"/>
            <a:ext cx="4724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10000"/>
              </a:lnSpc>
              <a:buClr>
                <a:srgbClr val="000000"/>
              </a:buClr>
              <a:buFont typeface="Verdana"/>
              <a:buChar char="•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Reviews On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EB EvaluTech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valutech.sreb.or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fornia Learning Resource Network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www.clrn.org/ho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erKids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3"/>
              </a:rPr>
              <a:t>www.superkids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ucation Worl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  <a:hlinkClick r:id="rId4"/>
              </a:rPr>
              <a:t>www.educationworld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 designed specifically to deliver or support one or more kinds of learning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Software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ll-and-Practi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deliver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 Solv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o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ructional Roles for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’s software can be difficult to classif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different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lap of functions in one pack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 Language learning software might incorpora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ill activities (directed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 &amp; gaming (constructivist strateg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arning Theory Conne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instructional software reflected behavioral and cognitive learning the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drill &amp; practice, tutorial) remain focused o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direct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ter software designed to support a constructivist approa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functions (e.g., simulation, games) can be used in either directed or constructivist way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gramming Languages as Instructional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al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ol softwa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d to introduce young children to problem solving through programm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Trends in Software Design and Deli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ine access and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ch user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newed emphasis on directed strategies and network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grated learning systems (IL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rill-and-Pract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ash card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anching dri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feedback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iteria for Well-Designed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 over presentation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jud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feedback for correct &amp; incorrect answ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6:21:22Z</dcterms:created>
  <dc:creator>Terence W. Cavanaugh</dc:creator>
  <dc:description/>
  <dc:language>en-US</dc:language>
  <cp:lastModifiedBy>UWALLHO</cp:lastModifiedBy>
  <dcterms:modified xsi:type="dcterms:W3CDTF">2009-08-14T18:05:03Z</dcterms:modified>
  <cp:revision>118</cp:revision>
  <dc:subject>Integrating Instructional Software into Teaching and Learning</dc:subject>
  <dc:title>Chapter 3</dc:title>
</cp:coreProperties>
</file>