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D2CD-2641-451D-BAEB-5501E48B9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C0F7-8198-43A2-A51B-5AAD6F50B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F36F-4018-4B1D-936B-2A7320179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05FD-4157-4652-A68D-CAB8ECA98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94F6-BCC8-42E6-AA54-E202190EE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E4B6-6643-4A4C-8A2A-2A56074F6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4103-3BF9-4A20-A37F-96C51EF7B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D7CD-1463-4EBA-A5BB-E7EAFBD21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7655-369E-420E-B2DB-84353EAF2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3944-7D25-4939-B75C-DF52353F9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1267-A0FD-4803-8B8C-8EA7BF44E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B88A-A17D-4F58-B775-9800AB7A3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DA4E-68CB-4388-B7B5-4E1AC659C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B167-6772-4F25-9AF7-FC2AED42A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1C85-79CB-4226-8FE6-425BA7690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C1AF-DC11-4F56-A7EC-F4668E08B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5953-CDFF-49AB-AEA4-39701ED4F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CB7F-40BB-49C7-84CB-FACB36851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4CA7-FD8C-49DC-9557-9777F2A82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ACA3-868C-4797-8CE5-64EEB1623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EC12-8FC5-4119-B841-BA9DC8D7D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AF6B-A04E-4AAF-B05F-41AAA8BE3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6445-2FA8-4129-BE46-D58CA2127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822A-714C-461B-87D6-888DFBB85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A813-5D11-4369-9728-03024D5A8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C3AF-99F5-4CD4-8E3E-8A90ABE6E4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0BEE-2C20-4E0E-8C98-319C5D5D37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8A15F-C589-4F95-9AF6-27BEC99A67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197D-F7E8-469F-BECD-81AE4FDC2B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4BCE-9A70-4400-8829-9433BB40EE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BF45A-9D0B-4C73-97A7-47AA7A9251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DD18-A210-47F3-8EB1-FA7391E75C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D02B-0F5C-4111-919B-7CA505F8F1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DD2F-CA52-4D34-9535-1819C03A2C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4DBB4-85EA-4EC8-85BF-D466E057E0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CD8F3-71D5-4CC5-81C9-1A67D4B6E8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C758-3A36-49F8-8543-80035A23C1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49464-3348-4DA7-8F6A-AE00A89EEC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ECF7E-5384-4646-82C4-B87DDAA5C7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9A60D-2BD3-4653-B75D-E3CE390B4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063EB-91DD-4576-B451-C40E0595721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43D98-0383-4FF8-8D4D-F62AB7AA7D9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C31FB-E587-4F31-910D-3DBEE49A719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910FB-D1B6-414F-ABE9-B8FFE453219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052DC-B713-4175-B753-E346F5A1B0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39C34-C757-402B-862A-47AA344384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5224C-F6EF-4B2E-B1C5-223761ACEA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37597-15E1-478B-9EC5-2BDBD2A2A5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32F63-C8CC-401D-B1CE-E66E64CB211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7C5D-D422-4DA1-A682-D411422B1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37ED-F5D9-47CD-92C1-865E68A2418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AF0D-36CC-40F8-962A-3A58574E3DF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609B-E1CB-4016-9D79-F09697EE410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4E4-EF1D-4600-9A14-C1B4C9F15E2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A48-7B43-461F-A1EC-424BF902B67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164-B1E9-4A4E-9AA1-6FCC5472ABB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F36-78DF-46C2-A8A7-CD2C5AE9542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D16A-D1A6-427E-804B-FE96BDE04E7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E5FE-8274-46A1-A98C-4590C5670C2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AD60-6DF7-481A-8136-A78AB44BE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4DD-DB4C-4F9D-8937-4D399DEDD0B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DBED2-10D0-4B0E-AA10-BBB65E0D199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C4716-02A7-43D6-A604-FBD927982C0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8885D-1E6D-4B7E-9D63-BE4CBF53FA7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8AA6B-AD55-4496-B5CB-4A38F2A5EA6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3091A-D505-47ED-A4A9-F7B44F4CAF0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90289-06CC-481C-A1B3-6B2F41F569D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ACB29-880D-400D-B3E3-13A5E4A9466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F551D-CF75-432B-8202-26D4C0C89EC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13E2D-3236-4515-A4A7-BFB8AFD15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FB0F5-9D98-4EDD-8829-7D59AC310F0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C417D-A004-4A88-B1E9-C64BEED3068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2CC66-32C1-45F3-8D3A-F07962986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F959D4D9-CD58-4935-BEB4-F39832808326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34D2C616-9323-4571-9E21-041DEA3CF808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D4FA29E7-A1A7-4CA7-ACEB-FC8BCE601D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DF4DD3F6-894E-44BD-BF89-EED432FA1266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4D183E65-E423-45E2-B9AC-E2D11A237F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FAE9AFDA-AE59-41CD-AEDC-E95C29557E5C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888FDEE1-7DE4-452A-AC78-73A7E35378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D563EDF6-690F-471E-BB39-FDCF9B256F05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fld id="{1B414040-7F53-4691-8C57-63D4CE2A64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valutech.sreb.org/" TargetMode="External"/><Relationship Id="rId2" Type="http://schemas.openxmlformats.org/officeDocument/2006/relationships/hyperlink" Target="http://www.clrn.org/home" TargetMode="External"/><Relationship Id="rId3" Type="http://schemas.openxmlformats.org/officeDocument/2006/relationships/hyperlink" Target="http://www.superkids.com/" TargetMode="External"/><Relationship Id="rId4" Type="http://schemas.openxmlformats.org/officeDocument/2006/relationships/hyperlink" Target="http://www.educationworld.com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hapter 3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ing with Instructional Softwa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65372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0 Pearson Education, Inc.  All rights reserved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394840" y="6543720"/>
            <a:ext cx="596880" cy="222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35320" cy="1828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28600" y="472428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public performance or display, including transmission of any image over a network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eparation of any derivative work, including the extraction, in whole or in part, of any image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rill-and-Practi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mediate feedb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ving teacher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mitations and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ceived mis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ticism by constructivis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rill-and-Practi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ement or replace worksheets and homework exerci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pare for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idelines for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 time lim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individu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learning s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utoria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ear tuto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anching tuto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teria for Well-Designed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sive inter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orough user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ropriate pedag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equate answer-judging and feedb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ropriate graph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equate record kee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utoria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mediate feedb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sav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contained &amp; self-paced unit of i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mitations and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ticism by constructiv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ck of good produ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lect only one instructional appro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utoria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paced revie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ive learning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ruction when teachers are un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idelines for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individu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learning stations or individual check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er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tuat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teria for Well-Designed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fidelity and accur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od accompanying documentation to explain system characteristics and 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ress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low down pro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t students invol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experimentation sa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impossible possi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e money and r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etition with vari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ation of complex pro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mitations and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uracy of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suse of simul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lacement or supplement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 experi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le-play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eld tr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roducing or clarifying a new top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stering exploration &amp; process 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uraging cooperation and group 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idelines for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equally effective with whole class, small groups, or individu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ularly good to instigate discussion and collaborative 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ually considered more appropriate for pairs and small grou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ructional Gam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ments of competition and challe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using or entertaining form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teria for Well-Designed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645080" y="2174760"/>
            <a:ext cx="41940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ealing formats and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ructional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sonable physical dexterity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, societal, and cultural consid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violence/aggre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y Integration Example: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Alien Rescue® Projec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7" descr="Page 74"/>
          <p:cNvPicPr/>
          <p:nvPr/>
        </p:nvPicPr>
        <p:blipFill>
          <a:blip r:embed="rId1"/>
          <a:srcRect l="0" t="-14725" r="0" b="-14725"/>
          <a:stretch/>
        </p:blipFill>
        <p:spPr>
          <a:xfrm>
            <a:off x="457200" y="11430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s 1-2: TPACK &amp; relative advan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3: Objectives and Assess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4: 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5: Instructional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6: Evaluate and Rev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ructional Gam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inter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eals to students’ desire to complete and p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mitations and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rning versus having f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usion of game rules and real-life r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efficient 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ructional Gam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place of worksheets and exerci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teach cooperative group working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a rew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idelines for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appropriate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olve all stud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hasize the content-area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ent-area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ent-free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teria for Well-Designed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llenging and interesting form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ear links to developing specific problem-solving skills or 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llenging activities increase interest and moti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s inert knowledge by illustration situations in which skills app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mitations and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mes versus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claims versus effective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sible negative effects of directed i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f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 component skills in problem- solving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support in solving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urage group problem sol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idelines for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ed teac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arly define skills and the teaching strate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uctivist appro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courage expl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stru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y amount of direction and assis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te ref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ss process over correct ans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ed Learning Systems (ILS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racteristic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worked or online system of i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complete curricula on a top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nd provide reports on student prog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mmarize data by student, class,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teria for Well-Designed 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od curriculum cover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od pedagogical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ral different report form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sily read and interpreted re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ed Learning Systems (ILS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e supplemental educational services required by NCL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nefits of drill, tutorials, simulations, instructional games, and problem solving—depending on sel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sier to access via network or onl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sonalized instru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mmary progress d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mitations and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on imp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rns about the role of 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ed Learning Systems (ILS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idelines for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ear prob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osed or open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ch scope and sequ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ch to target pop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equacy of reporting and management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 of hardware and software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educational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ILS updates from vend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ILS for match with expec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personnel and fiscal imp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457200" y="2666880"/>
            <a:ext cx="4724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10000"/>
              </a:lnSpc>
              <a:buClr>
                <a:srgbClr val="000000"/>
              </a:buClr>
              <a:buFont typeface="Verdana"/>
              <a:buChar char="•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ed Learning Systems (ILS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ed appl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edi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stream delivery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uctivist appl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ource-rich environ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457200" y="2666880"/>
            <a:ext cx="4724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10000"/>
              </a:lnSpc>
              <a:buClr>
                <a:srgbClr val="000000"/>
              </a:buClr>
              <a:buFont typeface="Verdana"/>
              <a:buChar char="•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Reviews Onlin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REB EvaluTech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evalutech.sreb.or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fornia Learning Resource Network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www.clrn.org/ho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erKids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www.superkids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ucation World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Verdana"/>
                <a:hlinkClick r:id="rId4"/>
              </a:rPr>
              <a:t>www.educationworld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ructional Softwa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s designed specifically to deliver or support one or more kinds of learning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ructional Software Func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ll-and-Practi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il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tori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deliver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o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ctional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il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o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lem Solvin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il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o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ructional Roles for Softwa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day’s software can be difficult to classif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different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lap of functions in one pack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 Language learning software might incorporat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ill activities (directed strateg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 solving &amp; gaming (constructivist strateg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arning Theory Connec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instructional software reflected behavioral and cognitive learning theo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functions (e.g., drill &amp; practice, tutorial) remain focused o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irect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ateg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ter software designed to support a constructivist approa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functions (e.g., simulation, games) can be used in either directed or constructivist wa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gramming Languages as Instructional Softwa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ucational Programming Langu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tructional softwa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ol softwa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d to introduce young children to problem solving through programm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cent Trends in Software Design and Delive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ine access and compon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2.0 technolo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ch user experi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newed emphasis on directed strategies and networked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grated learning systems (IL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rill-and-Practi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ash card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anching dri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sive feedback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teria for Well-Designed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796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 over presentation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swer jud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ropriate feedback for correct &amp; incorrect answ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6:21:22Z</dcterms:created>
  <dc:creator>Terence W. Cavanaugh</dc:creator>
  <dc:description/>
  <dc:language>en-US</dc:language>
  <cp:lastModifiedBy>UWALLHO</cp:lastModifiedBy>
  <dcterms:modified xsi:type="dcterms:W3CDTF">2009-08-14T18:05:03Z</dcterms:modified>
  <cp:revision>118</cp:revision>
  <dc:subject>Integrating Instructional Software into Teaching and Learning</dc:subject>
  <dc:title>Chapter 3</dc:title>
</cp:coreProperties>
</file>