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E7DE-B22B-4722-BE73-7A50C1051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706-0DE8-471A-AAA5-5C39879B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378E-FF75-44F4-9F09-75D1E4974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F3C5-F145-42D6-8E43-F15E5311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C93-DEDE-4771-AFD0-FB32B1222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A5D8-562F-417F-80C3-6F92C685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1A83-587A-4E0F-8D40-C0AAA5CD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5FF-A9AB-4B62-BBAB-462D880A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AE49-863D-4465-8E22-3362BCC07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BFC5-3329-456F-B792-F3DB98F93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EC56-C6C8-4CB1-8AE6-F7DF7E6D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467C-8343-4541-896F-9F55564F3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FE3-B106-4653-8A5A-0ADECEAE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6A6D-F57D-404C-AD9A-6A24C65A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DA2D-1AF5-4032-9564-473683D014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B5AC-9894-4FB2-8337-81044AED45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AD17-B528-4522-90BE-766688679F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E5D4-065F-4E02-B7D3-1D91C5B531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27BE-44D4-44EA-B9FD-838B9387F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2586-1014-4F8C-ACB2-90F15E26FA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D019-663D-43CD-9FA6-96DB6D8A18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98CF-661A-40E3-B1BD-32B1082DEC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E8B1-219E-4AC5-BA38-A282999951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2EB3-A4DA-4CBB-A8C1-6BA9B23856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1B67-56C7-40CC-BC17-62FE86BB52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AC24-0B02-4989-820E-FA022699CF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94C8-7C85-49B5-BFD7-72ECB36EA6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367E-A9CA-472F-B727-5E46CA4DE9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ABB2-E8A6-42C3-A47E-5E2927503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D974-620B-40AB-A62A-A635E18EDC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FDF7-1732-4DBF-837D-1E3C406AFD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30E2-2D90-4389-8DDF-808EB2CFFB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2691-CE1F-4EC9-B91F-A4E8488940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C329-1521-46A5-9BF7-22C9210A0E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6E2D-147B-4F18-BCEE-B877F3A923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EDF0-8D29-4760-86BB-451A6AA172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6EDD-1CDE-45A3-B041-5C0338DC6D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46EA-DE1F-405A-A109-248DD9BD48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F4A-9420-440A-903E-D11E019AD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2E2-2BED-4283-99D0-05BD16CE7E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FFE-B387-46B1-9461-B24753E2CC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2DF-24E0-4B9B-9D2C-D10BA1CD3E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0BF-57ED-49C9-B40B-5ED3F518D2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A32-0CF9-4456-8DF0-C8654B162C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B91-24C7-4BBC-8F7B-A8C6D17540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6A8-4A6E-4E10-841D-A5AB5CEAA7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03D-2060-4AF7-8626-0D02E139B1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271-3D3B-49C5-944A-E36EBABC58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C61-3C0F-48B3-B680-D01D14EC1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02E-1869-42E7-B669-28A1E31257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D285B-0346-4797-A935-C20265E245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99E4-6BCD-476B-AA1A-C31B20BFA3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47D81-0F44-4027-BA25-3799691A02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0B39C-0411-432D-9D65-2AEDB4B214D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832F-687D-4BB2-BD6C-EF57751129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9AB77-FF90-4A83-BC6E-C80DA06480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0726D-2FFA-466D-9F99-43E2EDF086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D2970-022F-4809-A025-68332BD777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1E775-0237-438F-9E38-1DD054A91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EF49D-0CF4-425C-A558-3907AE0BFA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9326-FB6B-4547-BEE1-EB70A16610C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47004-1830-45BE-86B4-F640EBEA1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78379CE9-F7B7-4B8B-A983-29379A3E421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3AB586F4-C318-436B-BAB2-0B324EFA9D9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CE22C48A-8AF3-4380-B8AF-421B2CA745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D8BB01F6-618E-45DC-8703-1AEE3E2CA26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77276DEA-0257-483E-A9D6-71CB3F5D2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39333C61-6B26-4747-BF5A-163051ACF95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4E2D665-2838-4464-80DD-14FE0907C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8D7B75D6-3355-4AEC-9C85-B318698EAE97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6E9D772E-528A-40F0-B3A8-E012A902A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the Basic Three Software Tools: Word Processing, Spreadsheet, and Database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51055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Introducing Wor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procedures with new 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designed to organize and manipulate numeric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readsh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fer to the program itself or to the product it produ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in rows and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 or calculation comm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nipul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 display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sking “what if”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motivation to work with mathema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ols for teaching concepts in many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stic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ture contains numerous examples from mathematics to social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s versus gradebook packag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u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 in the Classroo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ng gr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Spread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ulas and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that allow users to store, organize, and manipulate information (both text and numerical d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refer to both the program or product it cre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and updat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” UR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data redund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 locating and/or updat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mparison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reveal relationships amo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re useful skills in searching and u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inquiry and problem solv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eacher skills with designing lessons that use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ied access versus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ng with information over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ggregation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instructional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ining for planning and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d to questions or perform required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personalized letters to par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and study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a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ing information “pictur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ng and testing hypothe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ing for information during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ey Management with Spreadshe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database creation and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y Use Software Tool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ccu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“Basic Three”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1066680" y="380880"/>
            <a:ext cx="7086240" cy="7086240"/>
            <a:chOff x="1066680" y="380880"/>
            <a:chExt cx="7086240" cy="7086240"/>
          </a:xfrm>
        </p:grpSpPr>
        <p:sp>
          <p:nvSpPr>
            <p:cNvPr id="263" name="AutoShape 5"/>
            <p:cNvSpPr/>
            <p:nvPr/>
          </p:nvSpPr>
          <p:spPr>
            <a:xfrm>
              <a:off x="1066680" y="380880"/>
              <a:ext cx="7086240" cy="70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_s11279"/>
            <p:cNvSpPr/>
            <p:nvPr/>
          </p:nvSpPr>
          <p:spPr>
            <a:xfrm>
              <a:off x="3281040" y="1583640"/>
              <a:ext cx="2656800" cy="26575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_s11272"/>
            <p:cNvSpPr/>
            <p:nvPr/>
          </p:nvSpPr>
          <p:spPr>
            <a:xfrm>
              <a:off x="4255560" y="653400"/>
              <a:ext cx="7084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_s11280"/>
            <p:cNvSpPr/>
            <p:nvPr/>
          </p:nvSpPr>
          <p:spPr>
            <a:xfrm>
              <a:off x="4154400" y="3099600"/>
              <a:ext cx="2657520" cy="265680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_s11274"/>
            <p:cNvSpPr/>
            <p:nvPr/>
          </p:nvSpPr>
          <p:spPr>
            <a:xfrm>
              <a:off x="68662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_s11281"/>
            <p:cNvSpPr/>
            <p:nvPr/>
          </p:nvSpPr>
          <p:spPr>
            <a:xfrm>
              <a:off x="2405160" y="3097080"/>
              <a:ext cx="2656800" cy="26575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_s11276"/>
            <p:cNvSpPr/>
            <p:nvPr/>
          </p:nvSpPr>
          <p:spPr>
            <a:xfrm>
              <a:off x="16444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8"/>
          <p:cNvSpPr/>
          <p:nvPr/>
        </p:nvSpPr>
        <p:spPr>
          <a:xfrm>
            <a:off x="4641120" y="44197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3767400" y="2209680"/>
            <a:ext cx="17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2565720" y="4419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based softwar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-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enabled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file-exchange compat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oss 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 and integrated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s as a stream of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as desktop publishing produces documents as individual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cement on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s document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sharing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llaboration on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oogle Do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attitudes toward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rev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mechanic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har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o introdu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s on hand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asses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ing the learning of writing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 dynamic group produc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ing individual language, writing, and reading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writing through the curricul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d, interdisciplinary, and thematic i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0:55:00Z</dcterms:created>
  <dc:creator>Terence W. Cavanaugh</dc:creator>
  <dc:description/>
  <dc:language>en-US</dc:language>
  <cp:lastModifiedBy>UWALLHO</cp:lastModifiedBy>
  <dcterms:modified xsi:type="dcterms:W3CDTF">2009-08-14T18:13:00Z</dcterms:modified>
  <cp:revision>78</cp:revision>
  <dc:subject>Teaching with the Basic Three Software Tools</dc:subject>
  <dc:title>Chapter 4</dc:title>
</cp:coreProperties>
</file>