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7BD0-86FD-4369-A957-A6E04BF31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0C4C-C29D-4E6B-8AB6-AAD33C853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A812-DA3B-4019-B2C3-FA2CE5F61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B200-9493-4DA7-AE36-D40CDAEFF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F078-5419-4A9A-A435-365BA5229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069B-B343-4544-B4A8-BBD25D5BB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DAF3-4E8F-474D-B468-79EB3F563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6640-9EA5-433D-989D-17BB37699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88F6-5B23-4149-8BC5-59E3475F1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47E2-6A14-448A-88D0-CC40195BA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B00E-B8CE-4611-8A91-FE3960A67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F309-6D72-41E9-81CF-820E10DB3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447C0-C85F-404F-A2B6-34A1985B7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A1E3-ABED-453C-9490-FE160A1B3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89AD1-9EB8-4B85-9269-D05F6FC8E94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D0D37-8118-441F-8549-9EBF1EFE333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1C25A-9685-4D78-9D6D-2634D4B3AA0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947A2-CC8D-4442-BD90-A26FC27825E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C22F1-BE59-47F6-9404-EE98593D05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49E5F-52AF-495C-A980-430600CAF7E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5D310-B03A-4BB8-8F35-EF71AF0D407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5D1EC-05E4-478A-BB6D-36E1E514B86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4B857-3B76-48E6-B844-8117AAD636C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D5FC1-E480-42B1-A5F3-10E1DDBE6AE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CB18F-93F7-4E52-AAE0-8851A6EDD83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A5AEC-1886-4C97-897B-CAFB985CB0E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041B4-91C7-4292-9145-88371E4F57B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294B9-79DC-4AD3-998C-04C71CE2CB9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035AD-70DC-48E0-8AAC-C0BA7E1730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0AF33-980D-42A5-80DB-9ED827FFF25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0DF0F-2DF9-491E-AC6B-17A97F68E1D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7364F-A579-4F90-9CF9-5469DF6FCF4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62B9D-86AF-434E-930B-E48DFB89EDE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9890A-09CD-41CB-B857-A47B8D8C932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2C707-EB0A-4EBC-A837-4173E14E2C4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1EB0F-445A-484B-B776-84465845B22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87029-EF84-44CC-85E9-7B90A5057D9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F6D68-C3E8-4A69-93C4-5F3131C78CA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43A1-3276-4F53-9119-096CA2B1F3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7082-D3EF-4EEF-B70E-15F91F40E19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1A71-AD25-4997-AE27-4D7D9E6F953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885F-1CD6-41EA-AE11-5195B9AF1AB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0479-4DE8-4D24-860B-122EBB1D880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9A6D-A8FE-4190-A8E4-7D55B434B10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0551-428F-4B38-9305-0BF457051DA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4DEF-7919-422F-91DF-FCD237C0DBB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7820-8AC6-41F3-A29E-CE6627D66E6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878E-C541-40EE-9CD4-0088F30EF10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0723-874C-49E2-BE4C-E7A56E8434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2B2D-7435-4499-AF8D-522F4186301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297B8-5E86-4A5A-B29E-83B55168DFD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E6682-D726-4A1E-9FF3-4570AB9CACA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B26B4-85D7-42CB-B3C8-23353FD0493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12617-5F3B-448D-96FF-8BB6393B96A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8DAAE-B45E-4CCC-955E-1126D2AA67D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144F5-D14E-4BEE-AE6A-298ED40D799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D2ED4-7007-43E1-9352-B101AF069B1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8DE27-C879-41F1-BD7B-F1E22C1D846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330665-63B3-4DE8-8F0B-BE51F29E84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C0CB8A-D16E-404E-9C74-A9E2013FD24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F6927-9364-41D8-823E-5C381150489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596EBD-967B-4F19-8D42-0891090C69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 &amp; Aaron H. Doer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4.</a:t>
            </a:r>
            <a:fld id="{44AD8BA0-08DC-4AC2-99B7-C41159EC1A0F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026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4.</a:t>
            </a:r>
            <a:fld id="{3CD40C9C-24F0-4AD9-BFBB-0E404D69B493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0667BE38-0610-4446-947D-29982B000D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4.</a:t>
            </a:r>
            <a:fld id="{48AC42E0-F882-4465-8806-096A4CEFD243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EB4EC052-BF19-4AC3-B4FE-8A72474636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4.</a:t>
            </a:r>
            <a:fld id="{516AD601-1602-4275-BA3D-50A7A0133121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9CFB3A36-BA93-43C9-A159-193B38AAC4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4.</a:t>
            </a:r>
            <a:fld id="{696D3B12-CB39-4D9B-AC7F-D141C69E0337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fld id="{CF624E38-43AC-46E9-B452-7652C609D5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Chapter 4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990720" y="2743200"/>
            <a:ext cx="7238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eaching with the Basic Three Software Tools: Word Processing, Spreadsheet, and Database Progra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>
            <a:off x="5334120" y="6537240"/>
            <a:ext cx="358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© 2010 Pearson Education, Inc. 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8394840" y="6543720"/>
            <a:ext cx="596880" cy="2221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7467480" y="228600"/>
            <a:ext cx="1435320" cy="18288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228600" y="5105520"/>
            <a:ext cx="8534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1749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is multimedia product and its contents are protected under copyright law. The following are prohibited by la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y public performance or display, including transmission of any image over a networ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reparation of any derivative work, including the extraction, in whole or in part, of any imag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y rental, lease, or lending of the pr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ord Process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rategy for Introducing Wor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pare for teach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onstrate the bas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ign individual prac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onstrate formatting fe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ign more individual prac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onstrate procedures with new fi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ign more individual prac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readshee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grams designed to organize and manipulate numerical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preadshee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refer to the program itself or to the product it produ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aracteristic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in rows and colum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mulas or calculation comman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a manipul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rt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readshee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ducational Impa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v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ganize displays of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ort asking “what if” ques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 motivation to work with mathema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readshee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sear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ful tools for teaching concepts in many are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 sol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istica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terature contains numerous examples from mathematics to social stud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readsheets versus gradebook packag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exi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up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readsheets in the Classroo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duc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deboo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dg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eckli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structional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onstr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ent produ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ort f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blem solv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oring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ing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jecting gra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readshee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rategy for Teaching Spreadshe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pare for teach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onstrate the bas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ign individual prac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onstrate formulas and formatting fe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ign more individual prac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atabas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grams that allow users to store, organize, and manipulate information (both text and numerical dat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atabas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an refer to both the program or product it cre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aracteris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el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ore and update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arch que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o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mu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ve” UR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atabas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ducational Impa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duces data redundan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ves time locating and/or updating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ows comparisons of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lps reveal relationships among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atabas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sear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quire useful skills in searching and using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ful in inquiry and problem solving ski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 teacher skills with designing lessons that use the Intern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plified access versus 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ping with information overl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aggregation feat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atabas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duc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instructional re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a mining for planning and repor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pond to questions or perform required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d personalized letters to par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structional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earch and study ski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ganizational ski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derstanding information “pictures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ing and testing hypothe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arching for information during resear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echnology Integration Example:</a:t>
            </a: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oney Management with Spreadsheet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s 1-2: TPACK &amp; relative advant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3: Objectives and Assess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4: Integration Strateg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5: Instructional Enviro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6: Evaluate and Revi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atabas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84582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rategy for Teaching Datab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pare for teach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onstrate the bas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ign individual prac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onstrate database creation and 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ign more individual prac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y Use Software Tools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roved productiv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roved appear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roved accura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support for interaction and collabo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“Basic Three” Software Too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2" name="Group 6"/>
          <p:cNvGrpSpPr/>
          <p:nvPr/>
        </p:nvGrpSpPr>
        <p:grpSpPr>
          <a:xfrm>
            <a:off x="1066680" y="380880"/>
            <a:ext cx="7086240" cy="7086240"/>
            <a:chOff x="1066680" y="380880"/>
            <a:chExt cx="7086240" cy="7086240"/>
          </a:xfrm>
        </p:grpSpPr>
        <p:sp>
          <p:nvSpPr>
            <p:cNvPr id="263" name="AutoShape 5"/>
            <p:cNvSpPr/>
            <p:nvPr/>
          </p:nvSpPr>
          <p:spPr>
            <a:xfrm>
              <a:off x="1066680" y="380880"/>
              <a:ext cx="7086240" cy="708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_s11279"/>
            <p:cNvSpPr/>
            <p:nvPr/>
          </p:nvSpPr>
          <p:spPr>
            <a:xfrm>
              <a:off x="3281040" y="1583640"/>
              <a:ext cx="2656800" cy="265752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4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_s11272"/>
            <p:cNvSpPr/>
            <p:nvPr/>
          </p:nvSpPr>
          <p:spPr>
            <a:xfrm>
              <a:off x="4255560" y="653400"/>
              <a:ext cx="708480" cy="66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_s11280"/>
            <p:cNvSpPr/>
            <p:nvPr/>
          </p:nvSpPr>
          <p:spPr>
            <a:xfrm>
              <a:off x="4154400" y="3099600"/>
              <a:ext cx="2657520" cy="265680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_s11274"/>
            <p:cNvSpPr/>
            <p:nvPr/>
          </p:nvSpPr>
          <p:spPr>
            <a:xfrm>
              <a:off x="6866280" y="5225760"/>
              <a:ext cx="708480" cy="6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_s11281"/>
            <p:cNvSpPr/>
            <p:nvPr/>
          </p:nvSpPr>
          <p:spPr>
            <a:xfrm>
              <a:off x="2405160" y="3097080"/>
              <a:ext cx="2656800" cy="26575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_s11276"/>
            <p:cNvSpPr/>
            <p:nvPr/>
          </p:nvSpPr>
          <p:spPr>
            <a:xfrm>
              <a:off x="1644480" y="5225760"/>
              <a:ext cx="708480" cy="6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Text Box 18"/>
          <p:cNvSpPr/>
          <p:nvPr/>
        </p:nvSpPr>
        <p:spPr>
          <a:xfrm>
            <a:off x="4641120" y="441972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readsh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9"/>
          <p:cNvSpPr/>
          <p:nvPr/>
        </p:nvSpPr>
        <p:spPr>
          <a:xfrm>
            <a:off x="3767400" y="2209680"/>
            <a:ext cx="174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20"/>
          <p:cNvSpPr/>
          <p:nvPr/>
        </p:nvSpPr>
        <p:spPr>
          <a:xfrm>
            <a:off x="2565720" y="441972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cent Developments in Softwar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-based software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n-source softw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DA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-enabled feat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tter file-exchange compat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ross platfor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ftware suites and integrated pack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ord Process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cuments as a stream of te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reas desktop publishing produces documents as individual pa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aracteris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phic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acement on p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ord Process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ducational Impa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hances document appear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ows sharing of docu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ows collaboration on docu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Google Do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ord Process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sear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oves wri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oves attitudes toward wri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re revis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mechanical err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haring and feedba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to introdu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yboarding ski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ffects on handwri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act on assess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ord Process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gration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orting the learning of writing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ing a dynamic group product approa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igning individual language, writing, and reading exerci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couraging writing through the curricul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rated, interdisciplinary, and thematic instr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20:55:00Z</dcterms:created>
  <dc:creator>Terence W. Cavanaugh</dc:creator>
  <dc:description/>
  <dc:language>en-US</dc:language>
  <cp:lastModifiedBy>UWALLHO</cp:lastModifiedBy>
  <dcterms:modified xsi:type="dcterms:W3CDTF">2009-08-14T18:13:00Z</dcterms:modified>
  <cp:revision>78</cp:revision>
  <dc:subject>Teaching with the Basic Three Software Tools</dc:subject>
  <dc:title>Chapter 4</dc:title>
</cp:coreProperties>
</file>