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937B-E419-4902-A09D-9AFA7779E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3BC3-A8F3-4B4F-AC13-1C20096EF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5BC6-AF3F-465F-A88C-8909945A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2FEE-EDE4-4136-BECE-45104F94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4D4-00E3-4B95-808D-398F048F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F065-7DA7-4EEA-B5A2-CDEA8F379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86FE-C39E-44F2-83CD-8C7DE754A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11BF-4241-4EDF-8B5A-7160A226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EE4C-B3F8-4327-82E3-17CE70C5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B2F6-A4F9-4781-97CD-F3278DF91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3BBE-DB10-4B92-9448-2A5842A56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5E27-9831-4427-B8DF-F56FDDFD4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CC11-9241-477B-839E-C0A3E9B1F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C46C-5AB1-43E5-907C-77E416A15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9AC9-F746-46AD-B72E-941045C556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BD0F-A0DF-4119-82D8-E9EF247EDA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2643-F35D-4906-940F-C9DD644339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318A-2259-409D-A6E7-A5194F311C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1BE6-B364-4C56-8D23-D888388CA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B9EB3-DBBB-4096-9BEA-3FBE4025AB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48009-2C1C-4445-A119-2BAD4F0320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7A50-7ADA-4ADC-925C-354A3E292F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51ED-63D3-4C0C-B1C0-747C9207F2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E969-91A6-42CE-9EB0-1AF7DF5738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4975-EC62-4153-A92B-DEDDE2C378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486E-65F2-4D16-A05B-B334DE25D7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0539-C222-49A3-BB71-63D3F81493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45EF-CBC4-4B26-9024-150B31A403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68F0-117A-4FE8-BA95-0812A45E7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68131-4D62-4ED9-BD10-CBFD56F1F4E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3F33-429A-438F-8C24-F3E9A975CE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11F6-7E54-4DA9-8252-269E443A56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D151-3FF8-4D8C-AA2F-04CF21E297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75349-8C69-4DC5-BAA0-C8945C92ADA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23019-AA65-4A43-80A5-5D6B6814A1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1DE5-2D53-4E2B-9EB4-B03416DA7E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3B9F-70F7-4B3C-8861-D5BCA6F9F41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6FDC-D28C-4526-B74F-626415BAED6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B0BB-D64F-4CB2-AD44-E5ED063131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779-DA9A-4E82-8344-03B6C915FC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4F32-C68E-427E-906A-4F937F9188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44C-D0E3-4739-9280-E8ED689046A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BBD-03EF-444E-814E-A4ED650E49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518-244E-4A0B-B326-7BB3244F15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20E-0380-4678-BA91-A090BD0E12C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6CF-D621-4005-88A6-DBE177F5D95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E5F-478F-41AF-A0F7-3847B792A7F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50B-453D-42A4-8324-12413A138A3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58E-CAF3-4A4D-83A8-3AC484FE5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E26-BA1D-462F-8705-A93AC87505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5F39DD-F4D4-4324-BF7C-4E7250D371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A507F-ADE6-409A-841A-51B64FCE846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C8779-5AC9-4816-881C-DC267B8DF2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F318-F6FB-4D53-BBC9-1AB5BAF0A54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07C0-8F65-45FC-B08D-4C3A3AD2B8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2C65A-2975-4A8F-A60E-938ECA05F79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09A23-1DC8-473A-ADBF-2B7F7A70838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EF258-BF82-40C6-A85E-EC02B71E2EA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58CDB-F80A-48A5-8526-8C465D32B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FD22D-AF37-49B9-952F-88824C1631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0B901-F369-408C-9392-CCBCBFC3A5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284C6-C5B5-4DA9-B820-1880F8F58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87B5487B-0B63-48E0-BF4A-DED0643C81B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1F0406EA-2018-4DEA-941B-F9F8F654CFF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0B177A41-E3EE-401E-A45E-0997A205CA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582FA1BF-E2F4-468E-B5B1-FFDBEC116C6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670D134-46FE-4CF4-A221-C8206C7BA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8BF43567-BA41-4F06-97BA-F6B3645AC78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D5D8B1E-1C92-4A9B-9F0F-649083DD29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4.</a:t>
            </a:r>
            <a:fld id="{21B11E13-1B08-44D4-9A82-FC0C1E318F80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BAF8568C-FA48-4ECB-B42A-FA73832837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4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90720" y="2743200"/>
            <a:ext cx="7238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the Basic Three Software Tools: Word Processing, Spreadsheet, and Database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51055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Introducing Wor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procedures with new 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designed to organize and manipulate numerical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preadshee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refer to the program itself or to the product it produ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in rows and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 or calculation comm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anipul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rt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e display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asking “what if” ques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motivation to work with mathema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tools for teaching concepts in many ar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a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ture contains numerous examples from mathematics to social stud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s versus gradebook packag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u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 in the Classroo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d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eckli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ent produ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ng gr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readshee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Spreadshe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formulas and formatting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s that allow users to store, organize, and manipulate information (both text and numerical d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n refer to both the program or product it cre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re and update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” UR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s data redunda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 locating and/or updat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mparisons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lps reveal relationships amo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re useful skills in searching and u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inquiry and problem solv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 teacher skills with designing lessons that use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ified access versus 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ing with information over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ggregation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instructional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mining for planning and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d to questions or perform required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personalized letters to par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and study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zationa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ing information “pictures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ng and testing hypothe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arching for information during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ney Management with Spreadshe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ba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for Teaching Datab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pare for teac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the bas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monstrate database creation and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 more individual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 Use Software Tool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accu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“Basic Three”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2" name="Group 6"/>
          <p:cNvGrpSpPr/>
          <p:nvPr/>
        </p:nvGrpSpPr>
        <p:grpSpPr>
          <a:xfrm>
            <a:off x="1066680" y="380880"/>
            <a:ext cx="7086240" cy="7086240"/>
            <a:chOff x="1066680" y="380880"/>
            <a:chExt cx="7086240" cy="7086240"/>
          </a:xfrm>
        </p:grpSpPr>
        <p:sp>
          <p:nvSpPr>
            <p:cNvPr id="263" name="AutoShape 5"/>
            <p:cNvSpPr/>
            <p:nvPr/>
          </p:nvSpPr>
          <p:spPr>
            <a:xfrm>
              <a:off x="1066680" y="380880"/>
              <a:ext cx="7086240" cy="708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_s11279"/>
            <p:cNvSpPr/>
            <p:nvPr/>
          </p:nvSpPr>
          <p:spPr>
            <a:xfrm>
              <a:off x="3281040" y="1583640"/>
              <a:ext cx="2656800" cy="26575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_s11272"/>
            <p:cNvSpPr/>
            <p:nvPr/>
          </p:nvSpPr>
          <p:spPr>
            <a:xfrm>
              <a:off x="4255560" y="653400"/>
              <a:ext cx="7084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_s11280"/>
            <p:cNvSpPr/>
            <p:nvPr/>
          </p:nvSpPr>
          <p:spPr>
            <a:xfrm>
              <a:off x="4154400" y="3099600"/>
              <a:ext cx="2657520" cy="265680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_s11274"/>
            <p:cNvSpPr/>
            <p:nvPr/>
          </p:nvSpPr>
          <p:spPr>
            <a:xfrm>
              <a:off x="68662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_s11281"/>
            <p:cNvSpPr/>
            <p:nvPr/>
          </p:nvSpPr>
          <p:spPr>
            <a:xfrm>
              <a:off x="2405160" y="3097080"/>
              <a:ext cx="2656800" cy="26575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_s11276"/>
            <p:cNvSpPr/>
            <p:nvPr/>
          </p:nvSpPr>
          <p:spPr>
            <a:xfrm>
              <a:off x="1644480" y="5225760"/>
              <a:ext cx="708480" cy="6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8"/>
          <p:cNvSpPr/>
          <p:nvPr/>
        </p:nvSpPr>
        <p:spPr>
          <a:xfrm>
            <a:off x="4641120" y="441972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3767400" y="2209680"/>
            <a:ext cx="174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2565720" y="44197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based softwar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-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enabled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file-exchange compat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oss 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 and integrated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s as a stream of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as desktop publishing produces documents as individual p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cement on p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cational Imp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hances document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sharing of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collaboration on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Google Do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s attitudes toward 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revi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mechanic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haring and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o introdu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yboarding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s on handwr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assess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ord Process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174760"/>
            <a:ext cx="8229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ing the learning of writing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a dynamic group product appro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igning individual language, writing, and reading exerci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ouraging writing through the curricul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d, interdisciplinary, and thematic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0:55:00Z</dcterms:created>
  <dc:creator>Terence W. Cavanaugh</dc:creator>
  <dc:description/>
  <dc:language>en-US</dc:language>
  <cp:lastModifiedBy>UWALLHO</cp:lastModifiedBy>
  <dcterms:modified xsi:type="dcterms:W3CDTF">2009-08-14T18:13:00Z</dcterms:modified>
  <cp:revision>78</cp:revision>
  <dc:subject>Teaching with the Basic Three Software Tools</dc:subject>
  <dc:title>Chapter 4</dc:title>
</cp:coreProperties>
</file>