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dt" idx="6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 type="ftr" idx="7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 type="sldNum" idx="8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C56FF-C89B-43D2-93A5-056BF6B5D3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70F79-1723-4C34-92CE-845E0D5955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B1355-EBF0-481A-A27D-43FDB166E4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EF356-9427-4462-8A31-80699466B9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D97A9-2113-44C3-9C60-89B99F914E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C0CCC-7048-4F19-8AD6-BC6FD6B340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32C21-AE22-4C7C-83C0-75E61C22BA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4BC9E-3170-44F9-B478-47BC8E5700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3AD0C-94B6-4A7B-B743-23EBE4A14C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144BA-B967-443E-A5F9-29D572DDD1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62126-FA76-4FD5-BD60-B011045627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205A5-E118-4FE6-A711-0F4FBC711E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E6F48-7609-44E0-ADBF-4DB045239F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38F84-0B62-41B7-9278-A657178800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E249A8-A7F4-4F8C-A779-61A3785C61B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D6066E-9970-4C1B-8252-86CA52ED85F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B25641-34FE-4FDF-B199-74C76498796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BFC1F9-E738-46C1-8285-C235CCA95FB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C98DCC-7642-4049-AD30-F4A449D2673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CC6878-13F6-4445-831B-E0E9D034E2B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B71424-3DC3-46AE-8047-864CDACC8EB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56237B-B4E6-44D9-9417-08A94D250FC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4867BC-55F6-481C-8FC9-A7745AC11A5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723532-578C-454E-ABD4-51275F74C8E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56732D-E7B8-4899-A062-C1BF4133B79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A6D47C-A4F4-4F4A-92A1-83666934B542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161F22-F913-4AFC-8C9A-B3A4F0E0FA13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A64320-0D32-4E6F-AE63-E1FEA145017B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C6F183-3D5C-40EF-9F90-7243AD65EC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F543F8-63E1-465F-BB56-825028DEDB8B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1C0600-29D9-494E-870E-7B39C5B9BC7F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5A847C-7CD5-4DD5-8DAE-9E3C6C27D73D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5BAC69-5578-4B73-BFC8-C9F80A2E8E19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554044-55AE-4894-81DF-3FA17EF3E6D6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4C686E-1671-435A-AD02-CA2EC5E6FA76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38D20C-A422-49C3-B809-702E67521413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564D58-D747-4863-8789-71408CE1CD6F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F5E93D-1EE2-4CBF-9024-5CAA0E8F5AD5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9905D-3623-40EF-96BA-9838B6714A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E881F-E5FF-4B04-A134-5F39E7EAB427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57573-93D3-49A0-A468-EC0D63D67075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6019F-42E8-4F28-825C-C60DD9AA0BD8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D4766-323F-4E25-9B5F-93807393412A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8DDD5-2EB8-4E9E-9C5A-15A050239B8A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45308-8C07-4A70-8350-8E5E8F0CC85C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A3B4E-5790-40F8-94D7-339BAF2C2431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0A319-45DE-479D-B3C2-CDBBD034D5E3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E9257-F961-422C-8025-667DD86A6E74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32DED-2D0F-4EF4-90FF-2CE4768623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4E3FD-64C7-4BFB-938C-DE6D1DDFBD27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DAD853-7514-4A0A-965C-2F859C94BD49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7ABDE4-BA49-4769-BD43-4C9417F9C1D0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1383D6-8D9F-4E1E-A2E7-0067FBAD3D48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94C1C4-5D40-4564-B2D9-1005AD393217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B3D8A5-3EA6-4493-A432-CE53425F08DE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46D93F-F70C-4CC4-AD31-AB48910AB758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47E437-049F-483F-BBFF-DC894C2B8B4B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2A307B-BDDE-4B0B-990E-7F4ABB9B8A49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FD9339-6712-402D-9819-DA912571DA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820D4A-93AB-4A1D-9657-3FE66A0D32EB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6E7200-7B19-4905-846B-CE8D2B74A429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9F548A-AC27-4772-8C59-8C42C076B4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CompanionWebSite Back"/>
          <p:cNvPicPr/>
          <p:nvPr/>
        </p:nvPicPr>
        <p:blipFill>
          <a:blip r:embed="rId2"/>
          <a:srcRect l="0" t="17280" r="0" b="0"/>
          <a:stretch/>
        </p:blipFill>
        <p:spPr>
          <a:xfrm>
            <a:off x="0" y="0"/>
            <a:ext cx="8839080" cy="66294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Rectangle 14"/>
          <p:cNvSpPr/>
          <p:nvPr/>
        </p:nvSpPr>
        <p:spPr>
          <a:xfrm>
            <a:off x="457200" y="6095880"/>
            <a:ext cx="8229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r" pos="804384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M. D. Roblyer &amp; Aaron H. Doering</a:t>
            </a:r>
            <a:r>
              <a:rPr b="0" lang="en-US" sz="900" spc="-1" strike="noStrike">
                <a:solidFill>
                  <a:srgbClr val="808080"/>
                </a:solidFill>
                <a:latin typeface="Verdana"/>
              </a:rPr>
              <a:t>  </a:t>
            </a:r>
            <a:r>
              <a:rPr b="0" i="1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Integrating Educational Technology into Teaching</a:t>
            </a:r>
            <a:r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, 5/E</a:t>
            </a:r>
            <a:br>
              <a:rPr sz="900"/>
            </a:br>
            <a:r>
              <a:rPr b="0" lang="en-US" sz="900" spc="-1" strike="noStrike">
                <a:solidFill>
                  <a:srgbClr val="808080"/>
                </a:solidFill>
                <a:latin typeface="Verdana"/>
              </a:rPr>
              <a:t>Copyright ©2010 by Pearson Education, Inc.</a:t>
            </a:r>
            <a:br>
              <a:rPr sz="900"/>
            </a:br>
            <a:r>
              <a:rPr b="0" lang="en-US" sz="900" spc="-1" strike="noStrike">
                <a:solidFill>
                  <a:srgbClr val="808080"/>
                </a:solidFill>
                <a:latin typeface="Verdana"/>
              </a:rPr>
              <a:t>All rights reserved.</a:t>
            </a:r>
            <a:r>
              <a:rPr b="0" i="1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 </a:t>
            </a:r>
            <a:r>
              <a:rPr b="0" i="1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	</a:t>
            </a:r>
            <a:r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4.</a:t>
            </a:r>
            <a:fld id="{38143FFB-A8DF-4D07-8615-07F6B04B0142}" type="slidenum"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1026" descr="CompanionWebSite Back"/>
          <p:cNvPicPr/>
          <p:nvPr/>
        </p:nvPicPr>
        <p:blipFill>
          <a:blip r:embed="rId2"/>
          <a:srcRect l="0" t="17280" r="0" b="0"/>
          <a:stretch/>
        </p:blipFill>
        <p:spPr>
          <a:xfrm>
            <a:off x="0" y="0"/>
            <a:ext cx="8839080" cy="662940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8" descr="CompanionWebSite Back"/>
          <p:cNvPicPr/>
          <p:nvPr/>
        </p:nvPicPr>
        <p:blipFill>
          <a:blip r:embed="rId2"/>
          <a:srcRect l="0" t="17280" r="0" b="0"/>
          <a:stretch/>
        </p:blipFill>
        <p:spPr>
          <a:xfrm>
            <a:off x="0" y="0"/>
            <a:ext cx="8839080" cy="662940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14"/>
          <p:cNvSpPr/>
          <p:nvPr/>
        </p:nvSpPr>
        <p:spPr>
          <a:xfrm>
            <a:off x="457200" y="6095880"/>
            <a:ext cx="8229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r" pos="804384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M. D. Roblyer</a:t>
            </a:r>
            <a:r>
              <a:rPr b="0" lang="en-US" sz="900" spc="-1" strike="noStrike">
                <a:solidFill>
                  <a:srgbClr val="808080"/>
                </a:solidFill>
                <a:latin typeface="Verdana"/>
              </a:rPr>
              <a:t>  </a:t>
            </a:r>
            <a:r>
              <a:rPr b="0" i="1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Integrating Educational Technology into Teaching</a:t>
            </a:r>
            <a:r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, 5/E</a:t>
            </a:r>
            <a:br>
              <a:rPr sz="900"/>
            </a:br>
            <a:r>
              <a:rPr b="0" lang="en-US" sz="900" spc="-1" strike="noStrike">
                <a:solidFill>
                  <a:srgbClr val="808080"/>
                </a:solidFill>
                <a:latin typeface="Verdana"/>
              </a:rPr>
              <a:t>Copyright ©2010 by Pearson Education, Inc.</a:t>
            </a:r>
            <a:br>
              <a:rPr sz="900"/>
            </a:br>
            <a:r>
              <a:rPr b="0" lang="en-US" sz="900" spc="-1" strike="noStrike">
                <a:solidFill>
                  <a:srgbClr val="808080"/>
                </a:solidFill>
                <a:latin typeface="Verdana"/>
              </a:rPr>
              <a:t>All rights reserved.</a:t>
            </a:r>
            <a:r>
              <a:rPr b="0" i="1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 </a:t>
            </a:r>
            <a:r>
              <a:rPr b="0" i="1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	</a:t>
            </a:r>
            <a:r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4.</a:t>
            </a:r>
            <a:fld id="{BF84B566-558C-47F5-AD0B-481B4516C7A0}" type="slidenum"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fld id="{1371B704-0EA9-4515-AE62-E0641659131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8" descr="CompanionWebSite Back"/>
          <p:cNvPicPr/>
          <p:nvPr/>
        </p:nvPicPr>
        <p:blipFill>
          <a:blip r:embed="rId2"/>
          <a:srcRect l="0" t="17280" r="0" b="0"/>
          <a:stretch/>
        </p:blipFill>
        <p:spPr>
          <a:xfrm>
            <a:off x="0" y="0"/>
            <a:ext cx="8839080" cy="66294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14"/>
          <p:cNvSpPr/>
          <p:nvPr/>
        </p:nvSpPr>
        <p:spPr>
          <a:xfrm>
            <a:off x="457200" y="6095880"/>
            <a:ext cx="8229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r" pos="804384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M. D. Roblyer</a:t>
            </a:r>
            <a:r>
              <a:rPr b="0" lang="en-US" sz="900" spc="-1" strike="noStrike">
                <a:solidFill>
                  <a:srgbClr val="808080"/>
                </a:solidFill>
                <a:latin typeface="Verdana"/>
              </a:rPr>
              <a:t>  </a:t>
            </a:r>
            <a:r>
              <a:rPr b="0" i="1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Integrating Educational Technology into Teaching</a:t>
            </a:r>
            <a:r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, 5/E</a:t>
            </a:r>
            <a:br>
              <a:rPr sz="900"/>
            </a:br>
            <a:r>
              <a:rPr b="0" lang="en-US" sz="900" spc="-1" strike="noStrike">
                <a:solidFill>
                  <a:srgbClr val="808080"/>
                </a:solidFill>
                <a:latin typeface="Verdana"/>
              </a:rPr>
              <a:t>Copyright ©2010 by Pearson Education, Inc.</a:t>
            </a:r>
            <a:br>
              <a:rPr sz="900"/>
            </a:br>
            <a:r>
              <a:rPr b="0" lang="en-US" sz="900" spc="-1" strike="noStrike">
                <a:solidFill>
                  <a:srgbClr val="808080"/>
                </a:solidFill>
                <a:latin typeface="Verdana"/>
              </a:rPr>
              <a:t>All rights reserved.</a:t>
            </a:r>
            <a:r>
              <a:rPr b="0" i="1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 </a:t>
            </a:r>
            <a:r>
              <a:rPr b="0" i="1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	</a:t>
            </a:r>
            <a:r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4.</a:t>
            </a:r>
            <a:fld id="{AF80E81E-DF6C-4F81-81E8-12DB1E58FCF2}" type="slidenum"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fld id="{41DA623C-8790-4BED-9A87-614F50AB57D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8" descr="CompanionWebSite Back"/>
          <p:cNvPicPr/>
          <p:nvPr/>
        </p:nvPicPr>
        <p:blipFill>
          <a:blip r:embed="rId2"/>
          <a:srcRect l="0" t="17280" r="0" b="0"/>
          <a:stretch/>
        </p:blipFill>
        <p:spPr>
          <a:xfrm>
            <a:off x="0" y="0"/>
            <a:ext cx="8839080" cy="662940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14"/>
          <p:cNvSpPr/>
          <p:nvPr/>
        </p:nvSpPr>
        <p:spPr>
          <a:xfrm>
            <a:off x="457200" y="6095880"/>
            <a:ext cx="8229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r" pos="804384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M. D. Roblyer</a:t>
            </a:r>
            <a:r>
              <a:rPr b="0" lang="en-US" sz="900" spc="-1" strike="noStrike">
                <a:solidFill>
                  <a:srgbClr val="808080"/>
                </a:solidFill>
                <a:latin typeface="Verdana"/>
              </a:rPr>
              <a:t>  </a:t>
            </a:r>
            <a:r>
              <a:rPr b="0" i="1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Integrating Educational Technology into Teaching</a:t>
            </a:r>
            <a:r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, 5/E</a:t>
            </a:r>
            <a:br>
              <a:rPr sz="900"/>
            </a:br>
            <a:r>
              <a:rPr b="0" lang="en-US" sz="900" spc="-1" strike="noStrike">
                <a:solidFill>
                  <a:srgbClr val="808080"/>
                </a:solidFill>
                <a:latin typeface="Verdana"/>
              </a:rPr>
              <a:t>Copyright ©2010 by Pearson Education, Inc.</a:t>
            </a:r>
            <a:br>
              <a:rPr sz="900"/>
            </a:br>
            <a:r>
              <a:rPr b="0" lang="en-US" sz="900" spc="-1" strike="noStrike">
                <a:solidFill>
                  <a:srgbClr val="808080"/>
                </a:solidFill>
                <a:latin typeface="Verdana"/>
              </a:rPr>
              <a:t>All rights reserved.</a:t>
            </a:r>
            <a:r>
              <a:rPr b="0" i="1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 </a:t>
            </a:r>
            <a:r>
              <a:rPr b="0" i="1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	</a:t>
            </a:r>
            <a:r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4.</a:t>
            </a:r>
            <a:fld id="{352E0303-3782-415A-A5E4-8ECEC42E7F51}" type="slidenum"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fld id="{EE88A1DD-CE48-4D9B-A280-B964A6A983D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8" descr="CompanionWebSite Back"/>
          <p:cNvPicPr/>
          <p:nvPr/>
        </p:nvPicPr>
        <p:blipFill>
          <a:blip r:embed="rId2"/>
          <a:srcRect l="0" t="17280" r="0" b="0"/>
          <a:stretch/>
        </p:blipFill>
        <p:spPr>
          <a:xfrm>
            <a:off x="0" y="0"/>
            <a:ext cx="8839080" cy="6629400"/>
          </a:xfrm>
          <a:prstGeom prst="rect">
            <a:avLst/>
          </a:prstGeom>
          <a:ln w="0">
            <a:noFill/>
          </a:ln>
        </p:spPr>
      </p:pic>
      <p:sp>
        <p:nvSpPr>
          <p:cNvPr id="203" name="Rectangle 14"/>
          <p:cNvSpPr/>
          <p:nvPr/>
        </p:nvSpPr>
        <p:spPr>
          <a:xfrm>
            <a:off x="457200" y="6095880"/>
            <a:ext cx="8229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r" pos="804384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M. D. Roblyer</a:t>
            </a:r>
            <a:r>
              <a:rPr b="0" lang="en-US" sz="900" spc="-1" strike="noStrike">
                <a:solidFill>
                  <a:srgbClr val="808080"/>
                </a:solidFill>
                <a:latin typeface="Verdana"/>
              </a:rPr>
              <a:t>  </a:t>
            </a:r>
            <a:r>
              <a:rPr b="0" i="1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Integrating Educational Technology into Teaching</a:t>
            </a:r>
            <a:r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, 5/E</a:t>
            </a:r>
            <a:br>
              <a:rPr sz="900"/>
            </a:br>
            <a:r>
              <a:rPr b="0" lang="en-US" sz="900" spc="-1" strike="noStrike">
                <a:solidFill>
                  <a:srgbClr val="808080"/>
                </a:solidFill>
                <a:latin typeface="Verdana"/>
              </a:rPr>
              <a:t>Copyright ©2010 by Pearson Education, Inc.</a:t>
            </a:r>
            <a:br>
              <a:rPr sz="900"/>
            </a:br>
            <a:r>
              <a:rPr b="0" lang="en-US" sz="900" spc="-1" strike="noStrike">
                <a:solidFill>
                  <a:srgbClr val="808080"/>
                </a:solidFill>
                <a:latin typeface="Verdana"/>
              </a:rPr>
              <a:t>All rights reserved.</a:t>
            </a:r>
            <a:r>
              <a:rPr b="0" i="1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 </a:t>
            </a:r>
            <a:r>
              <a:rPr b="0" i="1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	</a:t>
            </a:r>
            <a:r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4.</a:t>
            </a:r>
            <a:fld id="{8D30004E-DBD0-4C90-88B6-1F68CCBB516A}" type="slidenum"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fld id="{3B4F390B-BED8-4585-8E17-681CB0A9219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5400" spc="-1" strike="noStrike">
                <a:solidFill>
                  <a:srgbClr val="000000"/>
                </a:solidFill>
                <a:latin typeface="Verdana"/>
              </a:rPr>
              <a:t>Chapter 4</a:t>
            </a:r>
            <a:endParaRPr b="1" lang="en-US" sz="5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990720" y="2743200"/>
            <a:ext cx="723888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eaching with the Basic Three Software Tools: Word Processing, Spreadsheet, and Database Program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"/>
          <p:cNvSpPr/>
          <p:nvPr/>
        </p:nvSpPr>
        <p:spPr>
          <a:xfrm>
            <a:off x="5334120" y="6537240"/>
            <a:ext cx="3581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© 2010 Pearson Education, Inc. 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8394840" y="6543720"/>
            <a:ext cx="596880" cy="22212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2"/>
          <a:stretch/>
        </p:blipFill>
        <p:spPr>
          <a:xfrm>
            <a:off x="7467480" y="228600"/>
            <a:ext cx="1435320" cy="182880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228600" y="5105520"/>
            <a:ext cx="85345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343080" indent="-17496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This multimedia product and its contents are protected under copyright law. The following are prohibited by law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174960">
              <a:lnSpc>
                <a:spcPct val="80000"/>
              </a:lnSpc>
              <a:spcBef>
                <a:spcPts val="300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any public performance or display, including transmission of any image over a network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174960">
              <a:lnSpc>
                <a:spcPct val="80000"/>
              </a:lnSpc>
              <a:spcBef>
                <a:spcPts val="300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preparation of any derivative work, including the extraction, in whole or in part, of any image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174960">
              <a:lnSpc>
                <a:spcPct val="80000"/>
              </a:lnSpc>
              <a:spcBef>
                <a:spcPts val="300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any rental, lease, or lending of the progra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Word Processing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53468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trategy for Introducing Word Process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457200" y="2174760"/>
            <a:ext cx="822960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epare for teach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monstrate the basic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ssign individual practi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monstrate formatting featu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ssign more individual practi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monstrate procedures with new fi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ssign more individual practi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preadsheet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efini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grams designed to organize and manipulate numerical dat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Spreadsheet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n refer to the program itself or to the product it produ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haracteristic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formation in rows and colum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rmulas or calculation command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ata manipulation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harting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preadsheet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53468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ducational Impac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2174760"/>
            <a:ext cx="822960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ave tim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rganize displays of 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pport asking “what if” ques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crease motivation to work with mathematic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preadsheet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esearc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eful tools for teaching concepts in many are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blem solv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atistical analysi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iterature contains numerous examples from mathematics to social studi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ssu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preadsheets versus gradebook package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lexibilit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tup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preadsheets in the Classroom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roductiv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radebook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udge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erformanc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hecklis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structional Strateg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monstra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udent produc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pport fo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blem solv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oring an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alyzing dat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jecting grad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preadsheet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3468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trategy for Teaching Spreadshee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457200" y="2174760"/>
            <a:ext cx="822960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epare for teach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monstrate the basic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ssign individual practi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monstrate formulas and formatting featu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ssign more individual practi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Database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efini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grams that allow users to store, organize, and manipulate information (both text and numerical data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Databas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can refer to both the program or product it creat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haracteristic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eld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rd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ore and update dat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arch quer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por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rmul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ive” UR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Database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53468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ducational Impac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457200" y="2174760"/>
            <a:ext cx="822960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duces data redundanc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aves time locating and/or updating 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llows comparisons of 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elps reveal relationships among dat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Database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esearc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quire useful skills in searching and using 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eful in inquiry and problem solving skil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crease teacher skills with designing lessons that use the Interne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ssu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mplified access versus privac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ping with information overloa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isaggregation featur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Database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roductiv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ventory of instructional resour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ata mining for planning and report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spond to questions or perform required task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nd personalized letters to par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structional Strateg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search and study skil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rganizational skil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nderstanding information “pictures”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osing and testing hypothes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arching for information during researc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echnology Integration Example:</a:t>
            </a:r>
            <a:br>
              <a:rPr sz="3200"/>
            </a:b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oney Management with Spreadsheet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hases 1-2: TPACK &amp; relative advantag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hase 3: Objectives and Assessm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hase 4: Integration Strateg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hase 5: Instructional Environ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hase 6: Evaluate and Revi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Database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845820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trategy for Teaching Databas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457200" y="2174760"/>
            <a:ext cx="822960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epare for teach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monstrate the basic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ssign individual practi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monstrate database creation and u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ssign more individual practi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Why Use Software Tools?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mproved productiv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mproved appear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mproved accurac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re support for interaction and collabor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he “Basic Three” Software Tool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62" name="Group 6"/>
          <p:cNvGrpSpPr/>
          <p:nvPr/>
        </p:nvGrpSpPr>
        <p:grpSpPr>
          <a:xfrm>
            <a:off x="1066680" y="380880"/>
            <a:ext cx="7086240" cy="7086240"/>
            <a:chOff x="1066680" y="380880"/>
            <a:chExt cx="7086240" cy="7086240"/>
          </a:xfrm>
        </p:grpSpPr>
        <p:sp>
          <p:nvSpPr>
            <p:cNvPr id="263" name="AutoShape 5"/>
            <p:cNvSpPr/>
            <p:nvPr/>
          </p:nvSpPr>
          <p:spPr>
            <a:xfrm>
              <a:off x="1066680" y="380880"/>
              <a:ext cx="7086240" cy="708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_s11279"/>
            <p:cNvSpPr/>
            <p:nvPr/>
          </p:nvSpPr>
          <p:spPr>
            <a:xfrm>
              <a:off x="3281040" y="1583640"/>
              <a:ext cx="2656800" cy="2657520"/>
            </a:xfrm>
            <a:prstGeom prst="ellipse">
              <a:avLst/>
            </a:prstGeom>
            <a:solidFill>
              <a:srgbClr val="3333cc">
                <a:alpha val="50000"/>
              </a:srgbClr>
            </a:solidFill>
            <a:ln w="46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_s11272"/>
            <p:cNvSpPr/>
            <p:nvPr/>
          </p:nvSpPr>
          <p:spPr>
            <a:xfrm>
              <a:off x="4255560" y="653400"/>
              <a:ext cx="708480" cy="66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_s11280"/>
            <p:cNvSpPr/>
            <p:nvPr/>
          </p:nvSpPr>
          <p:spPr>
            <a:xfrm>
              <a:off x="4154400" y="3099600"/>
              <a:ext cx="2657520" cy="2656800"/>
            </a:xfrm>
            <a:prstGeom prst="ellipse">
              <a:avLst/>
            </a:prstGeom>
            <a:solidFill>
              <a:srgbClr val="ccccff">
                <a:alpha val="50000"/>
              </a:srgbClr>
            </a:solidFill>
            <a:ln w="46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_s11274"/>
            <p:cNvSpPr/>
            <p:nvPr/>
          </p:nvSpPr>
          <p:spPr>
            <a:xfrm>
              <a:off x="6866280" y="5225760"/>
              <a:ext cx="708480" cy="66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_s11281"/>
            <p:cNvSpPr/>
            <p:nvPr/>
          </p:nvSpPr>
          <p:spPr>
            <a:xfrm>
              <a:off x="2405160" y="3097080"/>
              <a:ext cx="2656800" cy="2657520"/>
            </a:xfrm>
            <a:prstGeom prst="ellipse">
              <a:avLst/>
            </a:prstGeom>
            <a:solidFill>
              <a:srgbClr val="b2b2b2">
                <a:alpha val="50000"/>
              </a:srgbClr>
            </a:solidFill>
            <a:ln w="46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_s11276"/>
            <p:cNvSpPr/>
            <p:nvPr/>
          </p:nvSpPr>
          <p:spPr>
            <a:xfrm>
              <a:off x="1644480" y="5225760"/>
              <a:ext cx="708480" cy="66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Text Box 18"/>
          <p:cNvSpPr/>
          <p:nvPr/>
        </p:nvSpPr>
        <p:spPr>
          <a:xfrm>
            <a:off x="4641120" y="4419720"/>
            <a:ext cx="198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preadshe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Text Box 19"/>
          <p:cNvSpPr/>
          <p:nvPr/>
        </p:nvSpPr>
        <p:spPr>
          <a:xfrm>
            <a:off x="3767400" y="2209680"/>
            <a:ext cx="1742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o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ces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Text Box 20"/>
          <p:cNvSpPr/>
          <p:nvPr/>
        </p:nvSpPr>
        <p:spPr>
          <a:xfrm>
            <a:off x="2565720" y="4419720"/>
            <a:ext cx="153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Recent Developments in Softwar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eb-based software too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pen-source softwa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DA too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eb-enabled featu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etter file-exchange compatibil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ross platfor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oftware suites and integrated packag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Word Processing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efini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ocuments as a stream of tex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ereas desktop publishing produces documents as individual pag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haracteristic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raphic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lacement on pag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Word Processing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3468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ducational Impac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457200" y="2174760"/>
            <a:ext cx="822960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aves tim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nhances document appeara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llows sharing of docum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llows collaboration on docum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: Google Doc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Word Processing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esearc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mproves writ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mproves attitudes toward writ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ore revis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ewer mechanical erro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creased sharing and feedbac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ssu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en to introdu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Keyboarding skil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ffects on handwrit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mpact on assess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Word Processing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3468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tegration Strateg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57200" y="2174760"/>
            <a:ext cx="822960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pporting the learning of writing process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ing a dynamic group product approac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ssigning individual language, writing, and reading exercis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ncouraging writing through the curriculu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tegrated, interdisciplinary, and thematic instr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9T20:55:00Z</dcterms:created>
  <dc:creator>Terence W. Cavanaugh</dc:creator>
  <dc:description/>
  <dc:language>en-US</dc:language>
  <cp:lastModifiedBy>UWALLHO</cp:lastModifiedBy>
  <dcterms:modified xsi:type="dcterms:W3CDTF">2009-08-14T18:13:00Z</dcterms:modified>
  <cp:revision>78</cp:revision>
  <dc:subject>Teaching with the Basic Three Software Tools</dc:subject>
  <dc:title>Chapter 4</dc:title>
</cp:coreProperties>
</file>