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6F2D-5E9F-4768-90B1-E7ACC7833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9E0-7EFA-41D2-A90D-6205AA79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2058-3FBA-433C-A737-8EF283B7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FA62-1DA7-4D90-96FB-5822E4CA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0CF-7505-438C-937B-C1812286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A40-344A-48A4-8A5A-7E86FD224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DCB-7D7E-4A9E-A6FD-0C6E919A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AABF-C108-41C3-B9FA-9C4F9746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63A8-D858-43AC-8E08-9DE12FC44F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89B0-AB7E-4ACE-A3E1-9DCEC33503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E588-B681-46AC-90F3-2D7D67527D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DF3F-494C-476E-A24E-10F65826DF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1C82-6D06-49BA-A936-DDFB51597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6310-312E-458B-AE4E-E55C45D091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2E7D-9782-4EFD-B720-41C112C6B0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C43B-1613-4ABF-989A-3A63AE48A2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ECA7-E587-4D74-965A-6C25381C7B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F824-C272-4464-BAC9-6759DFA6F1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C563-021A-4518-ABE4-63B3F941DB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325D-9C15-40A2-AF48-BE2CED5C1A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011B-F8BF-40F3-A628-B30BD80E40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62C1-F294-4010-85C4-BC70C3AC06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EF6C-A90C-4447-BD9D-217F88982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B2FD-6FEC-40B1-BEEC-84DB512A06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467B-3520-4BDC-B7C2-FBDF5ECAF8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6486-6B86-470C-83A5-E802D7F093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F62C-5FF6-4047-9936-B11E5F2265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DC55-A52F-4492-A4FA-20D2B4411A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2C27-F6D2-498B-81D4-65620774A0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DCDF-6E9A-4103-A25E-D48F9745E6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15AE-CBC9-4D6C-9812-23457859E1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F0A5-270D-409F-873B-E9F4C81448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188-8B90-4D9F-A6F6-AE61A3282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9CD-9550-4994-A74D-50F15D164A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2A3-F34F-4375-BC4B-6A97B4CCC1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C7E-C45D-4B31-8425-3CF772020D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849-83A8-41C5-A2B0-791916F078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EC2-419A-442A-9323-44D694AFD8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C3B-DB85-4CE0-8F70-A8B06DBCC0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508-B114-4D00-9A37-3B850D05AD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B09-9FEF-4A9C-933F-4FBFF407F1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8EB-D06B-4DDD-ADEE-D883F6F38B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040-99F2-4776-9603-5695C22D8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E26-1334-47F1-9B6A-14B3552B5F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B1A1-833B-498F-9ACE-26A8248F19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1E927-716A-48A1-AE9C-6B3CA846AE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DC12-6CC0-4B6B-9A1C-DC9A78ABB9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3991-7F39-4446-AF9F-B65EC8F1A6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EF78-2035-4A36-91F5-166C91DB35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7435-6781-442F-8612-4F94D053DA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40334-6B69-4F0F-8CC1-ED98FA610C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A4447-C938-4CFE-B519-844D424E91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13A9-0DC6-4CEE-B8FD-88F164269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C529-9995-491D-8F57-C0E19C2FEA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219D-6869-4726-B628-863567BB5DC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F782-A80F-4AC3-A91A-F37CAC0B7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AAE294EE-42DE-4872-B2D2-6F1454DCD7C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A853C6B-BBD0-48A2-BE0B-5251D19AADD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2DEB9D1-7B37-4269-BFB3-E54A48D09C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77370397-E105-4C0C-9759-F73544F4CE7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2B940350-DD58-4EA4-96D4-E7363428F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D2640032-33C7-4EFE-8A04-6D53F91BFCB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6A54BD4-B870-4881-8E5D-3EBEE55E6A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93217208-BD5F-4AC7-B337-51749F88568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2008CADA-312D-4825-A79E-A82543114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Software Tools: Beyond the Basic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&amp; Referenc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encycloped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tlases and mapp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ctionari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word atl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ing Tools to Support Specific Content Are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I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ic editors &amp; sequen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computer-based labs (M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ng Calcul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or-based labs (C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and GI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positioning and geographic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Desktop-Published Literary Antholog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6044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efficiency an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accuracy and timeliness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sh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llection and analysi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ing and organiz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referenc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-are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books, PDAs, and cell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connectivit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ktop publish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ubric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heets and puzzle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P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document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and forms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Collection &amp; Analysi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grade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formation systems (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-based test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adaptive testing (C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room response systems or “clicker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ing and painting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edit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ing and graph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izing &amp; Video Developmen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p art, animation, sound, video and font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 &amp; Organiz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ing tools and concept mapp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 plann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ing and time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UWALLHO</cp:lastModifiedBy>
  <dcterms:modified xsi:type="dcterms:W3CDTF">2009-08-14T18:04:47Z</dcterms:modified>
  <cp:revision>43</cp:revision>
  <dc:subject>Teaching with the Software Tools: Beyond the Basics Programs</dc:subject>
  <dc:title>Chapter 5</dc:title>
</cp:coreProperties>
</file>