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B385-9F42-4C2E-8615-EBDE32B58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FDE6-65CB-4AB1-93A6-19C31A003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let students look up information in electronic versions of encyclopedias, atlases, and dictiona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3283-23A3-4C3F-98A6-ABD476A00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support teaching and learning activities in various content are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8EF9-B6F4-4A0B-9927-D6C91850E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4665-1B88-4E46-A61C-A15644C96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help teachers and students produce instructional materi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6D7E-3FE3-41DF-872A-A2D040E82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help teachers collect and organize information that indicates student prog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5F51-B538-4B57-8C1F-9C6C4F4C6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allow the manipulation of images to illustrate documents and web pa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ECEB-6C32-4C69-8AE7-2258933B2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help teachers and students conceptualize, organize, and communicate their ide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5ADD9-2206-4F79-B018-7F1F9F77CA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BBF86-B484-499B-A548-912FB4CB51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E01DD-3456-44B3-9534-41924B2E20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7E15-899C-4D27-9335-B281621FA2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EE850-943B-4103-ADEB-2668FA98F0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220F0-4E09-43EE-AEF6-E0CA26C601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3F96C-0FEA-4322-87FF-E52962C46A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C9F23-84FA-4828-83F0-4AFF18B684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2F033-10EB-436D-A314-21B8BABA85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876B0-E38A-451F-9E4C-508FD252B49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DE99-5E61-4BC5-BB5E-0B969BB132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91E7-EEB9-42C4-B554-5A7BEE34065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3FA1A-9FF0-4B4D-A582-553178AF3AE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32B5D-EE31-4F2C-A1F7-42216D78C0E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8DB13-23A4-4496-A900-FDFC2C8FE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3A2B2-D574-4748-BF22-D70A56229D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7DED4-5BAF-44B6-8EDD-D7588A6F068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2FD61-C479-48B6-BB6C-FEC14B76DD2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0EFB6-31E7-4C4A-B7E3-5D018F2B787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96190-F144-4885-96A6-A2586403E8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F2FC7-025E-4E71-A1C3-5CE81005C7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C4374-03AE-48F3-82C6-B7C7CD42430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21212-CCCC-4EC5-A87D-AA09784558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FAAB4-7722-49B6-8F7F-01D53C662A9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2FA0-18E2-4667-8AA0-2AA85A4B3B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24D4-5C81-44BE-8028-7A27E6F8B0C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95E5-F9B8-4A3E-8F2F-967A203B1CE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1FB-2097-4561-8C44-413369ADC50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8D0B-7624-4886-8348-7410567A6BB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E92D-AA23-426B-AEC6-FF8CE836151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37B1-F1C9-4BA7-9E9D-9855991A969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6F07-1C30-4D07-987A-EC4648878C4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9381-D0B3-4DFA-8B54-0DB2236D2DB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2EE8-8801-43A6-8C1C-DC84F7EC345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164E-493D-44C6-8542-1185B540B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181E-7597-4E84-8B31-C9B0A14C2BF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F60E0-5B2A-4066-87B0-EFF8D828AF8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3B6E3-68A0-4091-9792-7EA8476587D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0B1E6-3003-4096-ACFB-73395FFEFD2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EA0B0-F99F-42EB-AF0B-5F6AA423DC4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CDE1D-D78F-4328-86AB-ECE15AE0E03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FF998-BB5E-4FC5-857F-C8BD4D9B53E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E00EB-F595-4077-A021-97BD804462E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53B62-640B-4202-B994-798760F0006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E672C-6F27-4DCD-9EEB-7F7B286B6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F28F1-A1D2-4BAD-9302-E64F187723E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FAB6F-BCA4-4AD0-8D1E-A0BF5FF18DE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562E2-B932-4619-8E92-AE39B8B50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FE56E880-CFF3-4D02-94F8-885B008FDCDB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69AB78FC-6248-4BD3-BB11-E58FEC80EEB2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A332A970-675C-4D6C-854D-F685D3DA40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77A86A5A-809C-4846-BFC6-2ACEB9C4FC0D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E88751A0-351E-4465-ACCC-6BA15CCC1A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A6F5F7D2-82BC-496E-9522-B0B0D7D10884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A246892F-A86C-47EA-A89D-0D0504B393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9D851FA4-5E2B-447F-9E20-BCB31C0A203D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fld id="{FAC20A4C-1A8A-460F-A550-0B2E29EFDF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hapter 5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ing with Software Tools: Beyond the Basic Progra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65372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0 Pearson Education, Inc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394840" y="6543720"/>
            <a:ext cx="596880" cy="222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35320" cy="1828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28600" y="472428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public performance or display, including transmission of any image over a net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eparation of any derivative work, including the extraction, in whole or in part, of any imag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earch &amp; Reference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encycloped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atlases and mapping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dictionarie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word atl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ing Tools to Support Specific Content Are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DI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ic editors &amp; sequenc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ding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e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rocomputer-based labs (MB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phing Calculator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or-based labs (CB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PS and GIS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lobal positioning and geographic information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61596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y Integration Example: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Desktop-Published Literary Antholog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260440"/>
            <a:ext cx="8229600" cy="38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s 1-2: TPACK &amp; relative advan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3: Objectives and Assess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4: Integration Strate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5: Instructional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6: Evaluate and Rev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enefits of Using Software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s efficiency and produc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s appea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tter accuracy and timeliness of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support for interaction and sha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Software Support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terials gen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collection and analysis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phics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ning and organizing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and reference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ent-area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cent Developments in Software Support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books, PDAs, and cell ph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-connectivity fea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ftware sui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terials Genera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ktop publishing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and rubric gen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heets and puzzle gen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EP gen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phic document mak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DF and forms mak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 Collection &amp; Analysis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gradeboo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 pack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information systems (SI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-based testing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uter adaptive testing (CA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response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assroom response systems or “clickers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aphics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awing and painting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age editing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rting and graphing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izing &amp; Video Development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p art, animation, sound, video and font coll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lanning &amp; Organizing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ing tools and concept mapping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son planning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ing and time management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22:43:09Z</dcterms:created>
  <dc:creator>Terence W. Cavanaugh</dc:creator>
  <dc:description/>
  <dc:language>en-US</dc:language>
  <cp:lastModifiedBy>UWALLHO</cp:lastModifiedBy>
  <dcterms:modified xsi:type="dcterms:W3CDTF">2009-08-14T18:04:47Z</dcterms:modified>
  <cp:revision>43</cp:revision>
  <dc:subject>Teaching with the Software Tools: Beyond the Basics Programs</dc:subject>
  <dc:title>Chapter 5</dc:title>
</cp:coreProperties>
</file>