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260-C003-4F13-9CB1-CCC95B6E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C09C-FFE8-439B-914D-2767353A6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let students look up information in electronic versions of encyclopedias, atlases, and dictiona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E843-1ECE-4F4D-9442-A3C39A657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support teaching and learning activities in various content ar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A96-51DC-46B0-8398-B5AC29C1D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DC4E-4DEF-4ADE-BF66-2D4A49C72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produce instructional materi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9B0F-C96C-4056-98BD-D042879D1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collect and organize information that indicates student prog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BEC6-9133-4BC7-B398-96BB54090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allow the manipulation of images to illustrate documents and web pag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32F2-0130-4A38-BE50-792DE720D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ools that help teachers and students conceptualize, organize, and communicate their ide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FF77-BF08-40BB-A01B-493AA35709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ABAF-B1B2-49A3-AB0B-9BA1E0D1DA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A8C50-BD0D-46C4-84B6-8158BD7B9B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2A05-1AC9-4B1D-BA15-837E54D164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6911-5099-4A0F-AE28-0D7108C0D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82B5-31D6-427B-9CCA-5E4BE4BB1A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0071-95C0-4FDE-968A-07AA2489DD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63172-19C8-4007-892F-A9B9E732D3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D178-3626-44F0-9AF3-4F8D7DF6D6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B16C-6FF5-456B-AB8E-40EB1E124A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C958-A780-4A48-9E51-665EE01136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8340-454C-4D01-A1E6-98A4C0CC78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DCFA-0525-45EA-B156-1B2EDF4B24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C9F9-0162-4EAE-8B7F-514FE847AC3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C24E4-AB1E-483D-A518-A20384487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47D37-6DFC-4779-86C8-14416A9C736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0262-7736-4240-98B8-F5132AE943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A4143-BC41-4AF1-984F-E62CD03377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421D-93EB-41E7-B615-C778DDEC81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E3FF-C579-4755-ADEB-28AC1E8534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7254-A1D2-42D8-9A3A-9FEBAE1F10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511D-4B05-4422-B355-A7F56EF81BB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F357-B87F-48F8-9EC6-1C3A23E7E1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4F645-0B9A-476D-BF85-0B7295CD60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33E-30CE-4850-A7E1-7F46E9ACF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7B1-C717-4CD2-B2A5-718AD2C4AD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69E-9C8C-43E1-ABE2-82C6269127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A660-8337-4F12-A8E7-1D27682E5FB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EBF4-C4CE-41EE-8A3E-9E9E689685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05C-14FE-4B79-93F9-787A5F1FA99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7B0-2801-48DB-870F-8A54DEF390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F77-3663-406E-B5DC-7B22F3697E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86E-A6CF-43E2-A889-AE077CE1952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58A-08F7-458A-A530-95ECE25255D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B37-3EAC-42FD-B804-565353091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F53-539B-4BE3-85A1-3CAD9C33B23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2F78B-5B0A-4621-BA4A-A6F81CBB59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1C9C1-C70D-44DA-B15E-94E65C203BF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F77C6-1F30-4048-8D66-D329D70D27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94902-9036-4593-99E1-D737B3E6210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D12FD-E939-4C47-97E7-8DBA3A09EC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960A3-80B9-4DD9-9470-2DB8BED3CDD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B1CF5-1BF0-4108-82D1-AD54F9D56CB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F905F-5FA2-4FE2-A033-4A1C778DCF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6EEE0-8496-4700-A299-AF85B71E4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8A05D-D196-4ED4-A38F-D92E3815D19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17C7B-812E-488B-A385-DE978633D2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A87F5-F8D2-4091-B6A4-D829B50B5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30BCA77A-58AF-4C80-B3B1-FEB9D4343C6C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CA3F1A30-9C01-4A17-859B-5470DBB3060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E84D52E-2870-4489-9900-3D1ACA5A05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26674BC0-BDF3-4F9C-A67B-AF851C827ED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338780AD-AA35-4D73-9A79-24D63BB2BD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AA99D758-19B2-433F-B1A1-CDCAFFEC7EC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53E4AC70-33F2-4EEF-BB7A-8EC914EDF7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5.</a:t>
            </a:r>
            <a:fld id="{1B64E354-4C26-4E46-A6B4-8190EE123A18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CCA6C0CE-19FB-4BCF-B47A-AAB13D0D2A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5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Software Tools: Beyond the Basic Progra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&amp; Referenc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encycloped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atlases and mapp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dictionarie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word atl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sing Tools to Support Specific Content Are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DI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sic editors &amp; sequenc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e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crocomputer-based labs (M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ng Calculator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or-based labs (CB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S and GIS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 positioning and geographic information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1596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Desktop-Published Literary Antholog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60440"/>
            <a:ext cx="822960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nefits of Using Software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efficiency and produ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tter accuracy and timeliness of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support for interaction and sha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ollection and analysi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ning and organiz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reference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-area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Software Suppor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books, PDAs, and cell ph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-connectivity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ftware su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terials Generato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ktop publish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ubric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heets and puzzle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P gen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document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and forms m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ata Collection &amp; Analysi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grade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 pack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information systems (S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-based testing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uter adaptive testing (C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 response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room response systems or “clicker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raphics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ing and painting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edit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ting and graphing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izing &amp; Video Development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p art, animation, sound, video and font coll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lanning &amp; Organiz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ing tools and concept mapp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on planning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ing and time management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2:43:09Z</dcterms:created>
  <dc:creator>Terence W. Cavanaugh</dc:creator>
  <dc:description/>
  <dc:language>en-US</dc:language>
  <cp:lastModifiedBy>UWALLHO</cp:lastModifiedBy>
  <dcterms:modified xsi:type="dcterms:W3CDTF">2009-08-14T18:04:47Z</dcterms:modified>
  <cp:revision>43</cp:revision>
  <dc:subject>Teaching with the Software Tools: Beyond the Basics Programs</dc:subject>
  <dc:title>Chapter 5</dc:title>
</cp:coreProperties>
</file>