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C246-AB7D-47D9-AAB9-DA634D061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FA44-0A15-45DF-A677-6A1DCA4C5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tools that let students look up information in electronic versions of encyclopedias, atlases, and dictiona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0CC0-9D1A-42E6-B004-7AE3B9377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tools that support teaching and learning activities in various content are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C7A0-94E9-4E62-9063-413BB5BAC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61EE-A814-4CE9-AFA1-A9E5D5FD3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tools that help teachers and students produce instructional materi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4692-8F05-40D3-AEF6-B82F947AC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tools that help teachers collect and organize information that indicates student progr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2F45-3183-4876-8CAD-10E9D0F62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tools that allow the manipulation of images to illustrate documents and web pag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2C3C-1BBD-4125-A07E-731E7BEA6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tools that help teachers and students conceptualize, organize, and communicate their ide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31797-C3C8-48CA-97FB-036C9C4A154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C6930-FFFB-40CD-BEE5-8DCA8AC93C4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6DDB5-E557-4AF9-B431-EA6795F730E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0EC47-4B7E-4EBF-BB29-3D8A78572A6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A0036-FDB7-4FA4-BB13-4DD34B8E5E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78B1E-2026-4EED-82CC-B2648BBBF5C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3E953-71D6-4A40-92BC-68F405D9582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F13D7-D06A-4B85-8785-E5621333686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B05DA-2A3D-4227-AC4C-E3A1E76D8C4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CE84D-AA28-487C-9F9E-EE432AF628F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3EDAE-E1AE-4FD6-BF0E-7ADF7FC9BAE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1450C-0085-4300-818F-9159A8B54FC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BE209-8785-4633-833F-2C51E530D58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7A512-4B3C-421F-B752-9933EFE9AC5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1CF81-9298-48FD-A819-2B64C4F177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14568-73B4-4158-AAE1-5FB7A57FBD2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C2310-B5BF-460C-AC92-09859B51A98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2FC29-37EE-484E-B6B4-D65130A373D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7B43C-BE94-4D94-BE31-1F86D804559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54DFF-6596-420C-9A63-11742C63E81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59CCA-972A-41BD-9872-40BA001822C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4925C-24FA-4959-8394-ED8E4752FA3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348BA-A57E-4FD2-A386-18B0EF46B05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90070-1725-4A7F-A72E-57304CF2107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9134-8064-449E-A8EA-FC5A7E64D1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24CC-2BBE-4F72-B10A-E7A0C48AB1D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F54D-F911-4FDD-B5EC-51F2FBE4709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36AB-3142-4C6A-8EFF-0D7335333EF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BF69-D8BA-4CB4-AA90-ABEA5E82862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C40A-DE40-48E4-98DD-7E76DC106B8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46C5-0C16-494D-81C0-42D28A9B078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131D-CEDA-434A-8716-D747972F67C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3DC7-1364-4FD1-873E-F2487B32E96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0977-860C-4DCD-A72D-726CD9F3337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DD2D-DF13-4812-95B6-40982CC52D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7D61-96BF-4611-9AA7-6B3FA025B98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57E9F-EAA9-47EF-B6BB-45D0AE0FB0D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CD316-852E-4E75-8552-49284E89241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4108C-4747-484B-A0A4-13FA74FF6C0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EF4B16-6F78-4DED-B8AA-A7FB81444F7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109CF9-534F-408F-AE4A-50EBD4FCD46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5B8498-861E-47B8-A396-682FC991614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FE351C-C1DE-4AA1-8B00-AAA6E51026B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FD8D5-3E3E-4D1D-B2F7-49ACFDAB898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4F8DB8-BBF6-43B9-8B82-1B3C04406A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69D243-CE90-45C9-B234-48A7F2478DA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CF8EE-A7AB-4957-AD2C-30ED6F95543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49168-6159-4903-AEAA-03D7899444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 &amp; Aaron H. Doer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5.</a:t>
            </a:r>
            <a:fld id="{7B8DC5A9-FBBA-4751-B4DB-7A6C8F99B9B1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026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5.</a:t>
            </a:r>
            <a:fld id="{F097EA0A-BB54-46B5-A2C4-70297DBB9B59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83118A58-55FB-4597-B3D6-055B3E0121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5.</a:t>
            </a:r>
            <a:fld id="{84E84101-261F-4FA0-90DF-7A018A5610A0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9FE13588-12CC-4EF7-A276-8F102B8561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5.</a:t>
            </a:r>
            <a:fld id="{DAAE7422-8774-45C3-80A8-F1385331D5EF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AE48E286-BA30-4EE8-8570-90225E758F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5.</a:t>
            </a:r>
            <a:fld id="{1E4E0056-5F9E-42D0-98AA-32A35F06E8E6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fld id="{F1BEB196-8312-45A9-A4E7-307791335B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Chapter 5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914400" y="335232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eaching with Software Tools: Beyond the Basic Progra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>
            <a:off x="5334120" y="6537240"/>
            <a:ext cx="358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© 2010 Pearson Education, Inc. 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8394840" y="6543720"/>
            <a:ext cx="596880" cy="2221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7467480" y="228600"/>
            <a:ext cx="1435320" cy="18288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228600" y="4724280"/>
            <a:ext cx="8534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1749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is multimedia product and its contents are protected under copyright law. The following are prohibited by la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y public performance or display, including transmission of any image over a networ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reparation of any derivative work, including the extraction, in whole or in part, of any imag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y rental, lease, or lending of the pr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search &amp; Reference Too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nic encycloped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nic atlases and mapping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nic dictionarie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word atl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sing Tools to Support Specific Content Are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904760"/>
            <a:ext cx="40384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D sy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DI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sic editors &amp; sequenc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ding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bew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crocomputer-based labs (MB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48320" y="1904760"/>
            <a:ext cx="40384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phing Calculator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or-based labs (CB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PS and GIS sy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lobal positioning and geographic information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615960"/>
            <a:ext cx="822960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echnology Integration Example:</a:t>
            </a: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Desktop-Published Literary Antholog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2260440"/>
            <a:ext cx="8229600" cy="38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s 1-2: TPACK &amp; relative advant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3: Objectives and Assess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4: Integration Strateg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5: Instructional Enviro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6: Evaluate and Revi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enefits of Using Software Too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roves efficiency and productiv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roves appear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tter accuracy and timeliness of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support for interaction and sha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ypes of Software Support Too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terials genera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collection and analysis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phics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nning and organizing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earch and reference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ent-area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cent Developments in Software Support Too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tbooks, PDAs, and cell ph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-connectivity feat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ftware sui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terials Genera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ktop publishing softw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st and rubric genera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heets and puzzle genera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EP genera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phic document mak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DF and forms mak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ata Collection &amp; Analysis Too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nic gradeboo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 pack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information systems (SI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uter-based testing sy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puter adaptive testing (CAT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response sy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assroom response systems or “clickers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raphics Too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awing and painting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age editing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rting and graphing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gitizing &amp; Video Development Sy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p art, animation, sound, video and font coll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lanning &amp; Organizing Too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ing tools and concept mapping softw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sson planning softw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ing and time management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22:43:09Z</dcterms:created>
  <dc:creator>Terence W. Cavanaugh</dc:creator>
  <dc:description/>
  <dc:language>en-US</dc:language>
  <cp:lastModifiedBy>UWALLHO</cp:lastModifiedBy>
  <dcterms:modified xsi:type="dcterms:W3CDTF">2009-08-14T18:04:47Z</dcterms:modified>
  <cp:revision>43</cp:revision>
  <dc:subject>Teaching with the Software Tools: Beyond the Basics Programs</dc:subject>
  <dc:title>Chapter 5</dc:title>
</cp:coreProperties>
</file>