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8EA-03CA-42C6-8BDC-84D7F645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BA6-A7FB-400D-A282-2ACA3583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B8D-61C1-4003-B06B-68ACD611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FE3-76E3-4F23-A6A6-68BFABEB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15A-D9E7-4317-A8B6-43BC2936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F22-9EBC-4708-97AC-7371D40B0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B9F-39E5-4877-BCFE-CC2B4C8BD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A54-6EE3-40F4-AEE6-CDFE2530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BA70-57E2-49F2-9E1B-061C0083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B443-92C3-4556-B1E2-386AB977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9D0-EA4E-47DA-A453-BF00DB5B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88D-10A2-41D5-85FB-577FAB04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B375-6BAE-4B5C-B772-71B4EA3B5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1D3F-15DA-486C-AAFC-29EA350B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B38-7AFD-465A-9F53-ECB7C5D4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D37-E5D8-4D4F-8C1D-62A1DE91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86DD-0FE9-43B1-B854-99B428F95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853-50A9-4504-B220-C48D0DA2A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616D-1FAA-4362-9937-9EF4C421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ADB-79C1-4C5C-9972-90B63120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FE5E-733C-4D19-9A8B-1E5979AD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474E-2DA9-4D85-9D6A-FA2CE4B129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999F-D1D1-4ABD-BB19-CEFB1544C4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8386-F0F6-406A-BD00-46DB7F113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CF38-5528-43E1-92EE-6FC94BF5CB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9903-CAB4-485C-8BAC-EB1FC4960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5609-8B9C-4754-A22A-43EB0C422B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F3B4-E52A-484B-BB5C-560EFF3737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4107-9464-4811-81A0-A777FF0F76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C194-1FBF-4475-8441-B8DDCB635F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5EB2-FF6D-4D00-B9CA-EEB75B446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848A-1A46-4187-8DB1-83E4AA5102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3F24-28AC-4B4A-8301-453BEEA176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7690-25C9-45DA-B859-EE4233081D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6149-86F7-43D6-96FF-AEDE4A5EDC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3D82-9669-4159-8029-D3847DFDB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B4DC-0018-4FBF-9001-5029E3AC11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862E-C425-4816-8525-5C9FB7E40C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BFF7-5498-4FF7-AAC9-25C3B2AD26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3F7D-BE9E-47A5-A0BC-80ABBC1231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5B48-4051-479D-AEB8-7EDF8AE969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C986-73C4-484B-9F2F-8BE44CE3E9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C782-3DAE-4F34-88D2-A82E8A0F20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DCBA-94A9-42CF-B25E-A0E09AACB2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CB16-F4C7-4B31-B1C1-39B79CDF33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CA6-96A2-4386-93C8-B88479634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4AA-5593-43C4-8C51-DACFEC82FA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C62-A7B4-4433-94E8-29616C184D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516-60B6-4B5E-BEC5-1648362707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116-A442-4231-8138-8D4A96CDE3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9E0-D5E4-4FA4-B03D-A58DCF0182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1A6-C78B-4630-99C6-375A525EB3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B8B-C3AA-4031-BA43-44E31B21E7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0ED-D33A-4800-85A4-34D2C4AD4E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D4B-9950-4DF5-AF51-DF103D142D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BE3-FA28-4FEE-8F73-076307CA3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53B-B4BB-4C7D-89C0-D7A38C69D6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7DEF3-E702-49F7-88FF-75EB7B9112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284E2-8B20-4D27-9250-9CCE8F4BC2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74BE2-B4BA-4EDB-B7D7-BFEF60305F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A248-1C92-4619-BAE4-A541F5259D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11293-36A7-480E-A962-D3810ECB77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FD3C8-39C5-48EA-B602-E1EEDE092F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4D1D-1B34-4D41-A91E-8EB2F69FED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0819-7149-485F-99D8-D98C4946E9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92C78-2A8F-4975-98F2-DB712126C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60DCA-BF7D-410B-87A2-2371306282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02280-B960-4618-B1A3-A72883AC3B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2FB60-B0DF-4E62-9318-FD02C777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4320DEC8-282C-42F6-9E96-5D2163E4376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B37B36E4-4B62-4DFC-864A-41985F6213F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9BCAA79-2E84-48F1-9D82-BA32BABED1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36F33138-73A6-4BB6-91AD-29E82882256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2C369EF2-E954-43A7-B269-22951802B3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D2EE8A5F-2E53-4817-B57F-EB06471FAE0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9EEB2C8-7C8A-4C29-9692-55ECD51C6F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55026D13-4C6A-490D-BE6C-7AF1731EC0B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13C35A4F-7F65-43AD-921F-7CC799B93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Multimedia and Hyper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yclopedi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ana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l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papers and news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edings and con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19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llections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grap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ch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m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planning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desig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back and inter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s 4 and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also Technology Integration Lessons 6.1 and 6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media/Hypermedia Design and Develop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Types of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4411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media development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environments and immersion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2.0 author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rdwar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igit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corder and other video 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&amp; Development Proced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existing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research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ndividual frames and seg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links and/or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evise the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ce of Development Ste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Figure 6.2.jpg"/>
          <p:cNvPicPr/>
          <p:nvPr/>
        </p:nvPicPr>
        <p:blipFill>
          <a:blip r:embed="rId1"/>
          <a:srcRect l="17547" t="6597" r="15789" b="0"/>
          <a:stretch/>
        </p:blipFill>
        <p:spPr>
          <a:xfrm>
            <a:off x="1295280" y="1295280"/>
            <a:ext cx="6553440" cy="48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Skills to Develop Over Ti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a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music &amp; 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and graphic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vity and novel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ing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-Developed Hypermedia/Multimedia Proje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, videos, and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active Multimedia Storyboo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Presentatio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lectures or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ions of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le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portfol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cision-making and problem-solving sim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ing schoo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iteracy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ing video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communication, collaboration, and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Hypermedia Autho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esigned websites and mini-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Virtual Environments and Immersion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g for virtual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models to illustrate how system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rsion learning environments for practice, exploration, communication,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Web 2.0 Authoring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reflections on coursework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community-generated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s to share and reflect upon their work in the context of a broad community of connected individ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students to both personal and classroom interactive learning spaces 24 hours-a-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ation of media to communicate in multiple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graphics, photos, sound, video, animation,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text, Internet browsers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hypermedia soft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ng tools (design &amp; develop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media design &amp; development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rtual reality enviro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rrent &amp; Future Impact of Hypermedia on Edu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ible learn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s creative &amp; critical think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writing and process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hannels through which to proces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reative solutions with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er comprehension and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higher leve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er 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Design &amp; U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reen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 and feedba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i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nciples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 positive correlation between perceived aesthetics and 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: Users as desig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ence of offline (disc) and online (Internet)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ase of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and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v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39:26Z</dcterms:created>
  <dc:creator>Terence W. Cavanaugh</dc:creator>
  <dc:description/>
  <dc:language>en-US</dc:language>
  <cp:lastModifiedBy>UWALLHO</cp:lastModifiedBy>
  <dcterms:modified xsi:type="dcterms:W3CDTF">2009-08-14T18:03:58Z</dcterms:modified>
  <cp:revision>74</cp:revision>
  <dc:subject>Teaching with Multimedia and Hypermedia</dc:subject>
  <dc:title>Chapter 6</dc:title>
</cp:coreProperties>
</file>