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2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dt" idx="6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 type="ftr" idx="7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 type="sldNum" idx="8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B12E7-65C1-4A5B-9660-664F1E3D4A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BD151-F898-4744-A9D1-4824C83FD3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80BA7-95A9-4458-B12F-7946D187C5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809EB-77B1-4804-A009-532226C60F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61077-A751-4FC9-98E1-8B54B917BE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97BA4-F6BD-48F1-B343-637B4C4006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C9EAD-4072-4997-A0AC-C7CA2FB734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FB941-0C4B-45B3-A1F3-61EF1B46B1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BC2E6-F625-4B06-8375-83496235B2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33787-B6B1-4C60-AE2D-64A3251F78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B8360-4B0F-4042-A6FF-01B69C889E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1F2C1-F567-483E-9FF4-6195B7C494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79DEA-98AA-4DE6-9524-7BBA81F354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5E9B6-6A41-4168-A98F-C9CD5A8165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63FDE-9C0A-4A63-83FB-B05C33BF37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EAEAB-868D-4FCD-9203-1A4500FD4D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C2FF9-4D65-443F-8AA0-39944BDA84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FFFA3-19AF-4516-BF89-AFF3E13870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8B58C-5111-4F26-8183-D20B0FAF07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9B4AA-2F6C-4B23-9140-6CC3649215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8EB1A-F0ED-4734-BECD-76D97EC8F2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4109400"/>
            <a:ext cx="822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410940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410940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410940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82296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109400"/>
            <a:ext cx="822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4109400"/>
            <a:ext cx="822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410940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410940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410940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0B71B8-F4FF-4B37-AD78-4C25BB6AB9A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4B34A-797E-4CC9-B34F-B64FBD993C8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C7CE7D-34D7-494B-9C7C-CCED657C211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21DD99-A813-4007-86FB-E10F8B0356B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28A20D-0331-4FF8-9A67-6B20AEC15F5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82296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2641D5-F4A1-4AFD-ABC8-B9E9A1CB5CD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5A3582-936A-44CF-AEE5-60568749AEE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81A022-BAF6-48B9-B7F1-4183EB3AF63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4109400"/>
            <a:ext cx="822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8A94A2-889B-4490-A4FA-2D5E7AFF266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4109400"/>
            <a:ext cx="822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83098B-E10A-4A5D-B162-D0159EBA751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62ACDC-5966-4D66-9804-2404DD7AAAA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410940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410940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410940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FE1B3A-C343-4CB7-85F4-248F25226497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D2316C-D277-4FFE-BB92-6EE7B85FBD90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38E6BF-8B93-4432-B218-B5A7599DC6B2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F57BE9-8755-4E72-A088-B5CB31865D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21CF88-1E7E-4EE2-933E-8029DA3273C6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02799C-1611-4891-8FCC-2C10A0A1BC4D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82296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EADA82-84D4-4B57-8C25-2C9B8A31A0E0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4738E7-0BC4-4718-B771-819297FF25BE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283A8F-823D-418B-8E98-6D4C149FE5C0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4109400"/>
            <a:ext cx="822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B1B2FC-8F1D-4A1B-A131-99FF31CC8C5C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4109400"/>
            <a:ext cx="822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399849-E45A-43E3-9177-FE8EDE36D9E5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4D4654-1635-4E36-982D-DC8EF0B03FF4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410940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410940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410940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01576D-D1B9-41DB-A20F-C6427927F0E1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55151-5060-488D-8DD5-125C15373D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5B048-D7B9-462F-BDF4-00F28C9DD416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EDF9C-8A09-410B-ACE6-5B45FB08920F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8158A-31BD-4191-9978-CFBEEB55539E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99A99-A477-4873-B90D-E44B5F3CC283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82296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4C830-5BC9-4F19-AE1B-DAF6B905B538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A0BBF-8535-4CE0-B816-D270A6245415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24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9270A-FF3A-4B1D-B1FC-204A6DC9409D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109400"/>
            <a:ext cx="822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2D355-A384-4B19-8247-23447FFDFA94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57200" y="4109400"/>
            <a:ext cx="822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7E48A-8A59-426D-B03F-87EE0E3415F8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24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1550F-9421-424C-8D64-79A21FC9E5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82296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57200" y="410940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239640" y="410940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22080" y="410940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6623C-5160-412E-8424-7FF23010556F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EFB24A-4CC8-4AD1-9519-8DCE13753201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287F3A-61EA-48F1-A5E5-FC9AA2279DE7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A922A4-991D-4D6B-8BE2-24016C89C621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EC63BD-3A04-4E34-93EB-89522E502CBE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5EB536-A6C9-42EB-B914-F104AC668506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82296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D20A85-0566-4E1B-BCAE-A275AAF90FC9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7A470C-D351-45BA-81A7-AB4F97723B6E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7424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1E8416-5242-4AB3-AEBF-4DF7E713CA6A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4109400"/>
            <a:ext cx="822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686F8D-2AC8-4408-A1AF-44FEE9576D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57200" y="4109400"/>
            <a:ext cx="822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5501A3-1745-4702-A0DC-3D3734079698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7424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A76A19-C551-4577-8B75-6A2F4A292AED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57200" y="410940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239640" y="410940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022080" y="410940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B20D65-5BCC-495E-9F8A-B4AE41F2E5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109400"/>
            <a:ext cx="822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CompanionWebSite Back"/>
          <p:cNvPicPr/>
          <p:nvPr/>
        </p:nvPicPr>
        <p:blipFill>
          <a:blip r:embed="rId2"/>
          <a:srcRect l="0" t="17280" r="0" b="0"/>
          <a:stretch/>
        </p:blipFill>
        <p:spPr>
          <a:xfrm>
            <a:off x="0" y="0"/>
            <a:ext cx="8839080" cy="66294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Rectangle 14"/>
          <p:cNvSpPr/>
          <p:nvPr/>
        </p:nvSpPr>
        <p:spPr>
          <a:xfrm>
            <a:off x="457200" y="6095880"/>
            <a:ext cx="8229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r" pos="804384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M. D. Roblyer &amp; Aaron H. Doering</a:t>
            </a:r>
            <a:r>
              <a:rPr b="0" lang="en-US" sz="900" spc="-1" strike="noStrike">
                <a:solidFill>
                  <a:srgbClr val="808080"/>
                </a:solidFill>
                <a:latin typeface="Verdana"/>
              </a:rPr>
              <a:t>  </a:t>
            </a:r>
            <a:r>
              <a:rPr b="0" i="1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Integrating Educational Technology into Teaching</a:t>
            </a:r>
            <a:r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, 5/E</a:t>
            </a:r>
            <a:br>
              <a:rPr sz="900"/>
            </a:br>
            <a:r>
              <a:rPr b="0" lang="en-US" sz="900" spc="-1" strike="noStrike">
                <a:solidFill>
                  <a:srgbClr val="808080"/>
                </a:solidFill>
                <a:latin typeface="Verdana"/>
              </a:rPr>
              <a:t>Copyright ©2010 by Pearson Education, Inc.</a:t>
            </a:r>
            <a:br>
              <a:rPr sz="900"/>
            </a:br>
            <a:r>
              <a:rPr b="0" lang="en-US" sz="900" spc="-1" strike="noStrike">
                <a:solidFill>
                  <a:srgbClr val="808080"/>
                </a:solidFill>
                <a:latin typeface="Verdana"/>
              </a:rPr>
              <a:t>All rights reserved.</a:t>
            </a:r>
            <a:r>
              <a:rPr b="0" i="1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 </a:t>
            </a:r>
            <a:r>
              <a:rPr b="0" i="1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	</a:t>
            </a:r>
            <a:r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6.</a:t>
            </a:r>
            <a:fld id="{C2881675-F3C5-4137-869A-765B18A3D509}" type="slidenum"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1026" descr="CompanionWebSite Back"/>
          <p:cNvPicPr/>
          <p:nvPr/>
        </p:nvPicPr>
        <p:blipFill>
          <a:blip r:embed="rId2"/>
          <a:srcRect l="0" t="17280" r="0" b="0"/>
          <a:stretch/>
        </p:blipFill>
        <p:spPr>
          <a:xfrm>
            <a:off x="0" y="0"/>
            <a:ext cx="8839080" cy="662940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8" descr="CompanionWebSite Back"/>
          <p:cNvPicPr/>
          <p:nvPr/>
        </p:nvPicPr>
        <p:blipFill>
          <a:blip r:embed="rId2"/>
          <a:srcRect l="0" t="17280" r="0" b="0"/>
          <a:stretch/>
        </p:blipFill>
        <p:spPr>
          <a:xfrm>
            <a:off x="0" y="0"/>
            <a:ext cx="8839080" cy="662940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14"/>
          <p:cNvSpPr/>
          <p:nvPr/>
        </p:nvSpPr>
        <p:spPr>
          <a:xfrm>
            <a:off x="457200" y="6095880"/>
            <a:ext cx="8229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r" pos="804384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M. D. Roblyer</a:t>
            </a:r>
            <a:r>
              <a:rPr b="0" lang="en-US" sz="900" spc="-1" strike="noStrike">
                <a:solidFill>
                  <a:srgbClr val="808080"/>
                </a:solidFill>
                <a:latin typeface="Verdana"/>
              </a:rPr>
              <a:t>  </a:t>
            </a:r>
            <a:r>
              <a:rPr b="0" i="1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Integrating Educational Technology into Teaching</a:t>
            </a:r>
            <a:r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, 5/E</a:t>
            </a:r>
            <a:br>
              <a:rPr sz="900"/>
            </a:br>
            <a:r>
              <a:rPr b="0" lang="en-US" sz="900" spc="-1" strike="noStrike">
                <a:solidFill>
                  <a:srgbClr val="808080"/>
                </a:solidFill>
                <a:latin typeface="Verdana"/>
              </a:rPr>
              <a:t>Copyright ©2010 by Pearson Education, Inc.</a:t>
            </a:r>
            <a:br>
              <a:rPr sz="900"/>
            </a:br>
            <a:r>
              <a:rPr b="0" lang="en-US" sz="900" spc="-1" strike="noStrike">
                <a:solidFill>
                  <a:srgbClr val="808080"/>
                </a:solidFill>
                <a:latin typeface="Verdana"/>
              </a:rPr>
              <a:t>All rights reserved.</a:t>
            </a:r>
            <a:r>
              <a:rPr b="0" i="1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 </a:t>
            </a:r>
            <a:r>
              <a:rPr b="0" i="1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	</a:t>
            </a:r>
            <a:r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6.</a:t>
            </a:r>
            <a:fld id="{4141C5DF-B6BA-4D4F-ADCB-B4DDEF3CA686}" type="slidenum"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fld id="{3DB46885-AEDF-44D9-9EFD-DE8E23FC19E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8" descr="CompanionWebSite Back"/>
          <p:cNvPicPr/>
          <p:nvPr/>
        </p:nvPicPr>
        <p:blipFill>
          <a:blip r:embed="rId2"/>
          <a:srcRect l="0" t="17280" r="0" b="0"/>
          <a:stretch/>
        </p:blipFill>
        <p:spPr>
          <a:xfrm>
            <a:off x="0" y="0"/>
            <a:ext cx="8839080" cy="66294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14"/>
          <p:cNvSpPr/>
          <p:nvPr/>
        </p:nvSpPr>
        <p:spPr>
          <a:xfrm>
            <a:off x="457200" y="6095880"/>
            <a:ext cx="8229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r" pos="804384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M. D. Roblyer</a:t>
            </a:r>
            <a:r>
              <a:rPr b="0" lang="en-US" sz="900" spc="-1" strike="noStrike">
                <a:solidFill>
                  <a:srgbClr val="808080"/>
                </a:solidFill>
                <a:latin typeface="Verdana"/>
              </a:rPr>
              <a:t>  </a:t>
            </a:r>
            <a:r>
              <a:rPr b="0" i="1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Integrating Educational Technology into Teaching</a:t>
            </a:r>
            <a:r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, 5/E</a:t>
            </a:r>
            <a:br>
              <a:rPr sz="900"/>
            </a:br>
            <a:r>
              <a:rPr b="0" lang="en-US" sz="900" spc="-1" strike="noStrike">
                <a:solidFill>
                  <a:srgbClr val="808080"/>
                </a:solidFill>
                <a:latin typeface="Verdana"/>
              </a:rPr>
              <a:t>Copyright ©2010 by Pearson Education, Inc.</a:t>
            </a:r>
            <a:br>
              <a:rPr sz="900"/>
            </a:br>
            <a:r>
              <a:rPr b="0" lang="en-US" sz="900" spc="-1" strike="noStrike">
                <a:solidFill>
                  <a:srgbClr val="808080"/>
                </a:solidFill>
                <a:latin typeface="Verdana"/>
              </a:rPr>
              <a:t>All rights reserved.</a:t>
            </a:r>
            <a:r>
              <a:rPr b="0" i="1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 </a:t>
            </a:r>
            <a:r>
              <a:rPr b="0" i="1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	</a:t>
            </a:r>
            <a:r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6.</a:t>
            </a:r>
            <a:fld id="{6652E7EA-6D95-4620-8505-DE2FFE8085E7}" type="slidenum"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fld id="{DECF4EEB-AD3D-4815-B9E0-AB44305E4D2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8" descr="CompanionWebSite Back"/>
          <p:cNvPicPr/>
          <p:nvPr/>
        </p:nvPicPr>
        <p:blipFill>
          <a:blip r:embed="rId2"/>
          <a:srcRect l="0" t="17280" r="0" b="0"/>
          <a:stretch/>
        </p:blipFill>
        <p:spPr>
          <a:xfrm>
            <a:off x="0" y="0"/>
            <a:ext cx="8839080" cy="662940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14"/>
          <p:cNvSpPr/>
          <p:nvPr/>
        </p:nvSpPr>
        <p:spPr>
          <a:xfrm>
            <a:off x="457200" y="6095880"/>
            <a:ext cx="8229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r" pos="804384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M. D. Roblyer</a:t>
            </a:r>
            <a:r>
              <a:rPr b="0" lang="en-US" sz="900" spc="-1" strike="noStrike">
                <a:solidFill>
                  <a:srgbClr val="808080"/>
                </a:solidFill>
                <a:latin typeface="Verdana"/>
              </a:rPr>
              <a:t>  </a:t>
            </a:r>
            <a:r>
              <a:rPr b="0" i="1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Integrating Educational Technology into Teaching</a:t>
            </a:r>
            <a:r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, 5/E</a:t>
            </a:r>
            <a:br>
              <a:rPr sz="900"/>
            </a:br>
            <a:r>
              <a:rPr b="0" lang="en-US" sz="900" spc="-1" strike="noStrike">
                <a:solidFill>
                  <a:srgbClr val="808080"/>
                </a:solidFill>
                <a:latin typeface="Verdana"/>
              </a:rPr>
              <a:t>Copyright ©2010 by Pearson Education, Inc.</a:t>
            </a:r>
            <a:br>
              <a:rPr sz="900"/>
            </a:br>
            <a:r>
              <a:rPr b="0" lang="en-US" sz="900" spc="-1" strike="noStrike">
                <a:solidFill>
                  <a:srgbClr val="808080"/>
                </a:solidFill>
                <a:latin typeface="Verdana"/>
              </a:rPr>
              <a:t>All rights reserved.</a:t>
            </a:r>
            <a:r>
              <a:rPr b="0" i="1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 </a:t>
            </a:r>
            <a:r>
              <a:rPr b="0" i="1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	</a:t>
            </a:r>
            <a:r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6.</a:t>
            </a:r>
            <a:fld id="{E9251A5D-655F-4504-A3B7-99D56A18D2D4}" type="slidenum"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fld id="{479F633E-CAAB-4F0B-B2D1-B544213FFB3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8" descr="CompanionWebSite Back"/>
          <p:cNvPicPr/>
          <p:nvPr/>
        </p:nvPicPr>
        <p:blipFill>
          <a:blip r:embed="rId2"/>
          <a:srcRect l="0" t="17280" r="0" b="0"/>
          <a:stretch/>
        </p:blipFill>
        <p:spPr>
          <a:xfrm>
            <a:off x="0" y="0"/>
            <a:ext cx="8839080" cy="6629400"/>
          </a:xfrm>
          <a:prstGeom prst="rect">
            <a:avLst/>
          </a:prstGeom>
          <a:ln w="0">
            <a:noFill/>
          </a:ln>
        </p:spPr>
      </p:pic>
      <p:sp>
        <p:nvSpPr>
          <p:cNvPr id="203" name="Rectangle 14"/>
          <p:cNvSpPr/>
          <p:nvPr/>
        </p:nvSpPr>
        <p:spPr>
          <a:xfrm>
            <a:off x="457200" y="6095880"/>
            <a:ext cx="8229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r" pos="804384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M. D. Roblyer</a:t>
            </a:r>
            <a:r>
              <a:rPr b="0" lang="en-US" sz="900" spc="-1" strike="noStrike">
                <a:solidFill>
                  <a:srgbClr val="808080"/>
                </a:solidFill>
                <a:latin typeface="Verdana"/>
              </a:rPr>
              <a:t>  </a:t>
            </a:r>
            <a:r>
              <a:rPr b="0" i="1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Integrating Educational Technology into Teaching</a:t>
            </a:r>
            <a:r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, 5/E</a:t>
            </a:r>
            <a:br>
              <a:rPr sz="900"/>
            </a:br>
            <a:r>
              <a:rPr b="0" lang="en-US" sz="900" spc="-1" strike="noStrike">
                <a:solidFill>
                  <a:srgbClr val="808080"/>
                </a:solidFill>
                <a:latin typeface="Verdana"/>
              </a:rPr>
              <a:t>Copyright ©2010 by Pearson Education, Inc.</a:t>
            </a:r>
            <a:br>
              <a:rPr sz="900"/>
            </a:br>
            <a:r>
              <a:rPr b="0" lang="en-US" sz="900" spc="-1" strike="noStrike">
                <a:solidFill>
                  <a:srgbClr val="808080"/>
                </a:solidFill>
                <a:latin typeface="Verdana"/>
              </a:rPr>
              <a:t>All rights reserved.</a:t>
            </a:r>
            <a:r>
              <a:rPr b="0" i="1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 </a:t>
            </a:r>
            <a:r>
              <a:rPr b="0" i="1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	</a:t>
            </a:r>
            <a:r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6.</a:t>
            </a:r>
            <a:fld id="{0B334431-C5DD-4034-951A-C7F3C0B064B3}" type="slidenum"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fld id="{32465A37-8F63-41DF-A244-C4CED87D98B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5400" spc="-1" strike="noStrike">
                <a:solidFill>
                  <a:srgbClr val="000000"/>
                </a:solidFill>
                <a:latin typeface="Verdana"/>
              </a:rPr>
              <a:t>Chapter 6</a:t>
            </a:r>
            <a:endParaRPr b="1" lang="en-US" sz="5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eaching with Multimedia and Hypermedia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"/>
          <p:cNvSpPr/>
          <p:nvPr/>
        </p:nvSpPr>
        <p:spPr>
          <a:xfrm>
            <a:off x="5334120" y="6537240"/>
            <a:ext cx="3581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© 2010 Pearson Education, Inc. 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8394840" y="6543720"/>
            <a:ext cx="596880" cy="22212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2"/>
          <a:stretch/>
        </p:blipFill>
        <p:spPr>
          <a:xfrm>
            <a:off x="7467480" y="228600"/>
            <a:ext cx="1435320" cy="182880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228600" y="4724280"/>
            <a:ext cx="853452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343080" indent="-17496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This multimedia product and its contents are protected under copyright law. The following are prohibited by law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174960">
              <a:lnSpc>
                <a:spcPct val="80000"/>
              </a:lnSpc>
              <a:spcBef>
                <a:spcPts val="300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any public performance or display, including transmission of any image over a network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174960">
              <a:lnSpc>
                <a:spcPct val="80000"/>
              </a:lnSpc>
              <a:spcBef>
                <a:spcPts val="300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preparation of any derivative work, including the extraction, in whole or in part, of any image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174960">
              <a:lnSpc>
                <a:spcPct val="80000"/>
              </a:lnSpc>
              <a:spcBef>
                <a:spcPts val="300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any rental, lease, or lending of the progra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mmercial Hypermedia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continued)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eference Materia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456840" y="2441160"/>
            <a:ext cx="4040280" cy="36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ncyclopedia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lmanac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tlase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ewspapers and newslett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ceedings and conference materia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45080" y="1534680"/>
            <a:ext cx="419400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llections of Resour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4644720" y="2441160"/>
            <a:ext cx="4041720" cy="36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p ar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ound effec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hotograph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lowchar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cept map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ideo clip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ima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Evaluating Commercial Hypermedia Product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structional planning and suppor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structional desig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t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terface design and navig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eedback and interactiv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Integration Strategies for Commercial Hypermedia Product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534680"/>
            <a:ext cx="41911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structional Softwa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6840" y="2441160"/>
            <a:ext cx="4040280" cy="36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e chapter 3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oftware Too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4644720" y="2441160"/>
            <a:ext cx="4041720" cy="36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e chapters 4 and 5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e also Technology Integration Lessons 6.1 and 6.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ultimedia/Hypermedia Design and Developmen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53468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ive Types of Too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457200" y="2441160"/>
            <a:ext cx="8229600" cy="36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esentation softwa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ideo production and editing syste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ypermedia development softwa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irtual environments and immersion too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eb 2.0 authoring too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uthoring Resource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udi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ide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hotograph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aphic imag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ex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Hardware Requirement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mput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gital camer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cann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ideo digitiz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mcorder and other video inpu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icrophon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peake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Design &amp; Development Procedure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view existing produc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rform research fir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oryboar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individual frames and segm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dd links and/or scrip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est and revise the produc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equence of Development Step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7" name="Picture 4" descr="Figure 6.2.jpg"/>
          <p:cNvPicPr/>
          <p:nvPr/>
        </p:nvPicPr>
        <p:blipFill>
          <a:blip r:embed="rId1"/>
          <a:srcRect l="17547" t="6597" r="15789" b="0"/>
          <a:stretch/>
        </p:blipFill>
        <p:spPr>
          <a:xfrm>
            <a:off x="1295280" y="1295280"/>
            <a:ext cx="6553440" cy="48862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uthoring Skills to Develop Over Tim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edia literac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ing music &amp; ar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int and graphic design princip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ideo design princip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reativity and novel think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sidering the audie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Evaluating Student-Developed Hypermedia/Multimedia Project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t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structional desig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rganization and navig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ppear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aphics, videos, and soun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echnology Integration Example:</a:t>
            </a:r>
            <a:br>
              <a:rPr sz="3200"/>
            </a:b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Interactive Multimedia Storybook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hases 1-2: TPACK &amp; relative advantag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hase 3: Objectives and Assessm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hase 4: Integration Strateg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hase 5: Instructional Environ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hase 6: Evaluate and Revi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Integration Strategies for Presentation Softwar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upport for lectures or presenta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actice scree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essment scree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rief tutoria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ook repor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udent-created presentation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Integration Strategies for Video Production &amp; Editing System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457200" y="1904760"/>
            <a:ext cx="769608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monstrations of procedu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udent-created presenta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ideo lectu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ideo portfoli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ideo decision-making and problem-solving simula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Integration Strategies for Video Production &amp; Editing Systems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continued)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609120" y="1904760"/>
            <a:ext cx="807732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ocumenting school activit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isual literacy instru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eaching video produ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al-time communication, collaboration, and present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Integration Strategies for Hypermedia Authoring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rief tutoria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udent-created presenta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teractive storybook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udent-designed websites and mini-gam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Integration Strategies for Virtual Environments and Immersion Tools</a:t>
            </a:r>
            <a:endParaRPr b="1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maging for virtual field trip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3-D models to illustrate how systems wor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mmersion learning environments for practice, exploration, communication, and collabor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Integration Strategies for Web 2.0 Authoring Tools</a:t>
            </a:r>
            <a:endParaRPr b="1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hare reflections on coursework or topic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lore community-generated knowledg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courage students to share and reflect upon their work in the context of a broad community of connected individua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nect students to both personal and classroom interactive learning spaces 24 hours-a-da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How Do They Differ?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ultimedi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456840" y="2441160"/>
            <a:ext cx="4040280" cy="36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ultiple medi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bination of media to communicate in multiple way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ill graphics, photos, sound, video, animation, tex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Hypermedi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4644720" y="2441160"/>
            <a:ext cx="4041720" cy="36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inked medi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teractive medi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ypertext, Internet browsers,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new medi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ypes of Hypermedia System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mmercial hypermedia softwar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uthoring tools (design &amp; development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resentation softwar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Video production and editing system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Hypermedia design &amp; development softwar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Virtual reality environment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eb 2.0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urrent &amp; Future Impact of Hypermedia on Education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creased motiv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lexible learning mod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s creative &amp; critical thinking skil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mproved writing and process skil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Research on Impac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Benefi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6840" y="2441160"/>
            <a:ext cx="4040280" cy="36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ultiple channels through which to processing 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ore creative solutions with problem solv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reater comprehension and reten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ncer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644720" y="2441160"/>
            <a:ext cx="4041720" cy="36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mpact on higher level skil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earner sty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Research on Design &amp; Us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haracteristic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56840" y="2441160"/>
            <a:ext cx="4040280" cy="36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structional desig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creen desig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teraction and feedback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avig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earner contro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lor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Graphics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nimation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udi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Vide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rinciples to Consid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644720" y="2441160"/>
            <a:ext cx="4041720" cy="36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ti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abi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esthetic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rong positive correlation between perceived aesthetics and usabilit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Recent Developments in Hypermedia System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eb 2.0: Users as designe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vergence of offline (disc) and online (Internet) develop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creasing ease of u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mmercial Hypermedia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34680"/>
            <a:ext cx="41911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structional Softwa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456840" y="2441160"/>
            <a:ext cx="4040280" cy="36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utoria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rill and practi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mula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structional gam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blem solv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teractive Book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644720" y="2441160"/>
            <a:ext cx="4041720" cy="36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teractive storybook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Book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9T23:39:26Z</dcterms:created>
  <dc:creator>Terence W. Cavanaugh</dc:creator>
  <dc:description/>
  <dc:language>en-US</dc:language>
  <cp:lastModifiedBy>UWALLHO</cp:lastModifiedBy>
  <dcterms:modified xsi:type="dcterms:W3CDTF">2009-08-14T18:03:58Z</dcterms:modified>
  <cp:revision>74</cp:revision>
  <dc:subject>Teaching with Multimedia and Hypermedia</dc:subject>
  <dc:title>Chapter 6</dc:title>
</cp:coreProperties>
</file>