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A070-B6D2-4456-B53A-AC4CBF3C8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7912-1619-41BE-BD66-C29A5F918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2526-3C4C-4964-9D2E-C814E59FA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2E60-895A-480F-99B2-BFC014C0F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4A8D-7272-40B6-93DC-9712F589D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9318-8AE4-45AA-8F37-3D190BB21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54B6-7A3D-4E7B-89C5-7E28F6BF9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DD05-14AD-4D4D-9DE0-8FCB38930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CF13-0796-40E1-AAEE-38C840E8F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43CD-4F88-4404-9B8F-7C86A65B0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5DFA-C484-4239-BC14-2F6CD48F8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25D6-3129-4757-9B92-FA71A8DE8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55F7-1C8C-44B0-9895-DC577BCEF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1AAF-DFCD-41B8-A267-10BAE2096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7141-A16B-4091-8374-8B27AA24D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8CB1-0B8B-47EE-BFF0-FA1E44C27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1618-9C0B-4D50-9CEA-7A9717248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CA92-D66A-418A-86C0-60C13394C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8F87-EA95-4E97-9D85-586BA6C2D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5809-B369-4362-8524-D007A7127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545D-07F8-42B0-A5F3-45594C490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22A7C-AEFC-4BB7-810D-047F8CAE5F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6751-1034-4BDB-81A3-56DC1ACEDF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E876-9948-4386-A0E8-EBBD6DAF96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B0548-0606-47DA-8270-F0BD45023D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4CD6-8D70-498E-A2DB-6A9D308ABB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7F84-AFE7-4F86-90BC-FA9DDAAA0A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3713-AD82-42BC-B120-8F57FBE42A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EAF1-493C-4A30-9166-D6E5E79C6A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17C6-CBFC-48BB-BDA3-8791C45BC9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D8AB-56A5-4BF3-B2F9-7001565930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9CBE-FAA9-4A83-A1A2-3FE9F3CA43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C9B4A-619E-4CD5-ACF2-16A5014C88D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F4998-C3DA-4536-BB81-922244539D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ABBCF-94BA-4BEA-B80C-5526E653C8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0C657-306A-4523-8040-A5138158F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C89CD-081B-44E7-908F-B091929A27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7DBD-F17B-44B0-92A1-C21C8CF62D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0B1DA-BCB8-4265-B242-897FDD873E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3EA13-4C47-44D7-B08A-2324DABB7D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168BD-09A6-487D-BD19-142E75079B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3053-4278-4252-9A27-CF94BF55B4D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27A22-6FF4-4024-AC8B-907DF39813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129F3-74BE-46E8-8A2A-B7F5E60B30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543F0-9404-46C2-8C9E-B0A78E26C1A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45B-6694-453F-98B3-5691C80DE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16C-7C3F-4BE9-BB62-83493072597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2F3-13C5-4E6F-AFB8-5B21D5265DC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402A-9F36-4098-82D3-A8D49662B05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1B2-3C73-4DC4-8FA0-85E4F8540C0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676-39E7-496F-8145-F85DEB531B0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421-E9F9-4B33-B98D-E98291CD1C6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15DF-525E-46DC-A68D-D5882C056AA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FC1-AE77-4974-9AA5-AB30328B4AD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E9D-80DE-4CB2-95A0-97CA83B0366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49A3-3F2A-4C87-8C4C-EA1F06593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9A3-81BB-416E-982D-314562BE231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D3921-AC5B-422E-9679-C7A18CB1655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4B2C7-C932-4EFF-8940-34735442874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792BA-7232-4E93-993D-BC84E754486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8737C-E4DE-4E1C-A573-A16237005A7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7A684-C4B7-4BB2-A869-DAA51967F31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BB68E-A5C6-4F5E-9473-2457E1DF520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B8300-42AD-4672-8152-D13065EFEA8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793E9-B8D0-44AE-A003-D0AF14BA86E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E2541-A769-4400-9CE0-8702892EC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B6958-26A4-41F3-B7D1-9FEE9D714DA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52D5A-9BE1-4841-925C-BC3A156673E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3437F-9FA5-4972-A383-634A5C62F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6.</a:t>
            </a:r>
            <a:fld id="{6AC4A468-D93E-4810-BBF5-02E1D963F0BC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6.</a:t>
            </a:r>
            <a:fld id="{6952E7D3-82F0-48CE-8238-293F985C9C52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6E1B28D1-38B1-48AF-9A74-B6A2E92860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6.</a:t>
            </a:r>
            <a:fld id="{A3C26DD5-8DE6-4F4B-8149-6A8FBA450355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E3F84A05-64A7-414B-807C-40ED3FC968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6.</a:t>
            </a:r>
            <a:fld id="{DF6A9786-CAFC-4A88-818B-C3E238BC3AD4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8BE86D7A-057F-404D-87DC-1028360C93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6.</a:t>
            </a:r>
            <a:fld id="{BB1D523D-F059-4A89-BB36-B52C2AE4EF22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804CC779-DDCC-43E3-B62E-D48D536B67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6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ing with Multimedia and Hyper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28600" y="47242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mercial Hypermedi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ference 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yclopedia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manac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las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spapers and newsle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edings and conference 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5080" y="1534680"/>
            <a:ext cx="41940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llections of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p 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und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tograph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owch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ma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deo cl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im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Commercial Hypermedia Produ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ional planning and sup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ional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face design and navig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dback and intera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ion Strategies for Commercial Hypermedia Produ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41911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structional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 chapter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 chapters 4 and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 also Technology Integration Lessons 6.1 and 6.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ultimedia/Hypermedia Design and Developmen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ve Types of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2441160"/>
            <a:ext cx="82296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entation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deo production and editing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ypermedia development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rtual environments and immersion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2.0 authoring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uthoring Resourc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d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tograp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ic im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rdware Requirem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cam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digitiz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corder and other video inp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ph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ak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ign &amp; Development Procedu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existing produ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 research fir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ybo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individual frames and seg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links and/or scri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and revise the produ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quence of Development Step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4" descr="Figure 6.2.jpg"/>
          <p:cNvPicPr/>
          <p:nvPr/>
        </p:nvPicPr>
        <p:blipFill>
          <a:blip r:embed="rId1"/>
          <a:srcRect l="17547" t="6597" r="15789" b="0"/>
          <a:stretch/>
        </p:blipFill>
        <p:spPr>
          <a:xfrm>
            <a:off x="1295280" y="1295280"/>
            <a:ext cx="6553440" cy="4886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uthoring Skills to Develop Over Tim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dia liter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music &amp; 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nt and graphic design princi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design princi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ivity and novel thin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ing the aud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Student-Developed Hypermedia/Multimedia Proje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ional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ation and navig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ea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ics, videos, and sou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Example: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ractive Multimedia Storybook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s 1-2: TPACK &amp; relative advan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3: Objectives and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4: Integration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5: Instructional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6: Evaluate and Rev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ion Strategies for Presentation Softwa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for lectures or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ctice scre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ssment scre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tutor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ok re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-created present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ion Strategies for Video Production &amp; Editing System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04760"/>
            <a:ext cx="76960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monstrations of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-created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lec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portfol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decision-making and problem-solving sim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tegration Strategies for Video Production &amp; Editing Systems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09120" y="1904760"/>
            <a:ext cx="80773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ing schoo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ual literacy instr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ing video pro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l-time communication, collaboration, and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ion Strategies for Hypermedia Author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tutor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-created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active storyboo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-designed websites and mini-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tegration Strategies for Virtual Environments and Immersion Tools</a:t>
            </a:r>
            <a:endParaRPr b="1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aging for virtual field tr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-D models to illustrate how systems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mersion learning environments for practice, exploration, communication, and collab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tegration Strategies for Web 2.0 Authoring Tools</a:t>
            </a:r>
            <a:endParaRPr b="1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re reflections on coursework or top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ore community-generated knowle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ourage students to share and reflect upon their work in the context of a broad community of connected individ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nect students to both personal and classroom interactive learning spaces 24 hours-a-d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Do They Differ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bination of media to communicate in multiple w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 graphics, photos, sound, video, animation, 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per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active 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ypertext, Internet browsers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med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Hypermedia System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ercial hypermedia softw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horing tools (design &amp; developmen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sentation softw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 production and editing syste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ypermedia design &amp; development softw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rtual reality environ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b 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rrent &amp; Future Impact of Hypermedia on Educ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d 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exible learning m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s creative &amp; critical thinking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writing and process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earch on Imp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channels through which to processing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creative solutions with problem sol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eater comprehension and ret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c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act on higher level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rner sty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earch on Design &amp; U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ructional desig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creen desig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action and feedba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vig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er contro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or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hic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ima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d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nciples to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t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ong positive correlation between perceived aesthetics and us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cent Developments in Hypermedia System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2.0: Users as desig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gence of offline (disc) and online (Internet)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ing ease of 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mercial Hyperme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41911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structional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uto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ill and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ional ga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active B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active storyb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B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23:39:26Z</dcterms:created>
  <dc:creator>Terence W. Cavanaugh</dc:creator>
  <dc:description/>
  <dc:language>en-US</dc:language>
  <cp:lastModifiedBy>UWALLHO</cp:lastModifiedBy>
  <dcterms:modified xsi:type="dcterms:W3CDTF">2009-08-14T18:03:58Z</dcterms:modified>
  <cp:revision>74</cp:revision>
  <dc:subject>Teaching with Multimedia and Hypermedia</dc:subject>
  <dc:title>Chapter 6</dc:title>
</cp:coreProperties>
</file>