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CBFC-2282-494D-9FC6-DEB72DD7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7F31-2EE8-47E3-B008-3CBF5D84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B9F6-8792-46D3-9104-FF7231C76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66A6-8E55-4944-9DF9-0E03B531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DB9-D810-4B2A-A03F-56C654196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A1B6-8DBB-4DEB-89F1-2D772F655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E84-87B4-4990-8581-C622CFB2D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C465-81BD-4763-A578-218CBFC4D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B9B-6293-4A86-B2AB-49F32B2ED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FEC-D611-40ED-AC99-5083915BF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CC1-6146-4712-961E-FF218DEC8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CD00-2434-4AEC-9293-D2B76209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7269-1BCA-4460-9415-CC8A0455B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F00D-BE7C-4111-87DC-80EEC5D78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AE3-2744-41D4-9C77-CAA45BAA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18DC-4F34-4CFE-9EA8-12F8CB840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1D5-4411-4D14-85CC-757383CD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C58E-8533-4325-B7CA-D321F4524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6B65-DD1F-4C2F-91C8-3DDB8E55A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1A9A-C1CE-4693-8F73-B8F1E2F78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E58A-8497-4C93-ACC8-03715195E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AFCD-30BA-4058-A6AA-5A65054536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8628-BC55-4CB2-BEFE-E560A2300D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C74A-4BA4-4D7E-BA8D-91CD733FC5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EC9C-F938-4D2D-A23C-DF67ABE622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4156E-EEFE-4B9E-9C25-BBEF17CB1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C7692-BA37-4258-9987-77F7A926A7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21FB-5791-4396-AE75-2DD8DA9D48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F9BE-8288-4AF0-BA74-F5E6BA36D2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4CF6-82B1-4D71-96E3-5ABEADED0C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6852-56DE-4AA1-AD5D-20051578EF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A6FFB-956A-45ED-B36A-3738D6F53B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45CC-9A6C-4E6D-9082-AA3028C9219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B712-F24D-45E1-935B-466D05153E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6E67-FAD5-4E35-851B-570A00B7C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A64A-A1C6-4DC3-9C08-54AB4E056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F010-DBB3-46D3-9982-091528F308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6FAA3-68A8-4238-BC29-740AD3D126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C3BEC-C637-4E7E-AE2D-FC45F7ED97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26F76-AEC3-4683-93B9-58FA76BA5C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6D76-DCDE-439D-8E69-7505055B5D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168B-8D38-41F8-8709-16ACC0CD9B3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53CD-867A-4E43-90EB-D75755C74D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A3898-85B3-4DC6-8559-3D4ADCA6BB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7DF6-65F9-468B-8060-13D3AD42E9F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0A9-381C-40F4-87E8-D891325CE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BA2-60D8-4467-8589-9B7AAD25E93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86D-4B2C-4E60-9D0A-1E8EA04E07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676-4FAD-4825-B040-436586743A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AF8-20AA-45B0-BC7F-3BFCB8639E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E9A-0D31-4562-8092-1ED22CD03AC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D0F-A0FF-4F93-AA15-D19E63634D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4E4-3AC0-4432-B86D-B3DB8146C0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88D-5DDA-4717-8BF2-2F53643C8B8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135-45ED-46EC-921B-0317AD5C72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17A-6B97-4C00-9C2D-605DD84F6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C53-FF74-459D-A2D1-4BE1DA407AF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41265-4384-4D8C-BA0A-81CED3CF889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F3E56-5220-4EEF-AF88-198B627B8A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39BAD-6599-4E10-A769-C8D5D9A6E4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B4B01-E9AE-4C29-BB21-42B4C348ADD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430F2-5148-4929-AF2A-5829C8D836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661D9-35DC-42A5-9CB9-DDF00E0C05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683D9-5EF2-4CA9-BE9A-42C409B91C6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A111D-2554-4610-A8AA-DE6D8F06D5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119FD-D04E-470E-A80A-80975BE67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9EB0-867D-4227-898E-8F0A7DDEF1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530C-4C78-40E6-8A4D-1902FE0EF6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5F3A8-7FFB-4190-A880-D665ECAD1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764A706A-2B3C-4CBE-88B8-B94A98F9BF2E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0B0FE181-9158-4C9C-96BE-3AE14599A32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7CF5FF69-D99C-4291-9D2B-E2E3D4D0BD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C4748244-B651-4524-A35B-CBCDB294B196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94F63C8-72A8-4138-904A-1B656D4C2D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FDEB9CF2-295D-40B4-B52B-E66727A1FBC5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A1C0FEE8-1936-4AC8-AE62-6DAC2365F4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6.</a:t>
            </a:r>
            <a:fld id="{2038F828-BEDD-439D-96B1-B14D658F763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4EA74C9A-5464-46F8-B674-BD5C1DDD7B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6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eaching with Multimedia and Hyper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yclopedia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manac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l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spapers and newslet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edings and conference 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1534680"/>
            <a:ext cx="4194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llections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p 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nd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graph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ch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m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cl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i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planning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desig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back and interac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Commercial Hypermedia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chapters 4 and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 also Technology Integration Lessons 6.1 and 6.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ultimedia/Hypermedia Design and Develop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ve Types of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441160"/>
            <a:ext cx="822960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ypermedia development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rtual environments and immersion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 2.0 author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rdware Require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am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igit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corder and other video inp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ak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ign &amp; Development Procedu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existing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research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individual frames and seg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links and/or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nd revise the produ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ce of Development Step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4" descr="Figure 6.2.jpg"/>
          <p:cNvPicPr/>
          <p:nvPr/>
        </p:nvPicPr>
        <p:blipFill>
          <a:blip r:embed="rId1"/>
          <a:srcRect l="17547" t="6597" r="15789" b="0"/>
          <a:stretch/>
        </p:blipFill>
        <p:spPr>
          <a:xfrm>
            <a:off x="1295280" y="1295280"/>
            <a:ext cx="6553440" cy="4886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uthoring Skills to Develop Over Tim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a liter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music &amp; a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t and graphic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sign princi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ivity and novel thin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ing the aud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-Developed Hypermedia/Multimedia Proje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ation and navig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ear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s, videos, and sou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active Multimedia Storybook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Presentation Softwar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lectures or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ssment scre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ok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nstrations of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le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portfol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deo decision-making and problem-solving sim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tegration Strategies for Video Production &amp; Editing System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continued)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09120" y="1904760"/>
            <a:ext cx="8077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ing schoo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iteracy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aching video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l-time communication, collaboration, and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 for Hypermedia Author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tutor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created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udent-designed websites and mini-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Virtual Environments and Immersion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g for virtual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-D models to illustrate how systems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ersion learning environments for practice, exploration, communication, and collab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Integration Strategies for Web 2.0 Authoring Tools</a:t>
            </a:r>
            <a:endParaRPr b="1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are reflections on coursework or top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ore community-generated knowl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ourage students to share and reflect upon their work in the context of a broad community of connected individ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nect students to both personal and classroom interactive learning spaces 24 hours-a-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Do They Differ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ation of media to communicate in multiple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graphics, photos, sound, video, animation,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ypertext, Internet browsers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ercial hypermedia softw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oring tools (design &amp; develop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entation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 production and editing sys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media design &amp; development softw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rtual reality environ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b 2.0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urrent &amp; Future Impact of Hypermedia on Educ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exible learn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s creative &amp; critical thinking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writing and process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Impac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channels through which to processing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creative solutions with 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ater comprehension and ret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n higher level ski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er 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earch on Design &amp; Us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ructional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creen desig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 and feedbac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arner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l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i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d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nciples to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ong positive correlation between perceived aesthetics and us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cent Developments in Hypermedia System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2.0: Users as desig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gence of offline (disc) and online (Internet)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ease of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mercial Hypermed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structional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2441160"/>
            <a:ext cx="404028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uto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and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ructional g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active 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4720" y="2441160"/>
            <a:ext cx="40417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active story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Boo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23:39:26Z</dcterms:created>
  <dc:creator>Terence W. Cavanaugh</dc:creator>
  <dc:description/>
  <dc:language>en-US</dc:language>
  <cp:lastModifiedBy>UWALLHO</cp:lastModifiedBy>
  <dcterms:modified xsi:type="dcterms:W3CDTF">2009-08-14T18:03:58Z</dcterms:modified>
  <cp:revision>74</cp:revision>
  <dc:subject>Teaching with Multimedia and Hypermedia</dc:subject>
  <dc:title>Chapter 6</dc:title>
</cp:coreProperties>
</file>