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C908-3292-4ED4-80F0-337FD787D8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399E-4EC4-49E3-90F1-1B5964F866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165C-1721-43D0-B595-A255616301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C022-C307-4D6F-BC46-6A1210D12F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2CB9-BEAD-4AC0-AA4B-04BC6350B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83FD-7E50-415B-93FA-BEB1D0D21B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CE2C-0B25-4C64-8079-0EC8AA27CA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BDD7-5C93-443B-BE6C-13971E36B8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A271-2A38-479B-8148-4006164023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F683-067F-4B38-A137-7637F6121A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C60A-E91C-4D82-BD05-040537A3E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922B-22BE-4812-8863-3DED807AF5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47F0-79FC-484E-9428-6FC76B31AD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C2E4-1317-4017-8FDD-1FDB6E5CC4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3F99-B089-4309-92F1-DB2287DFF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1BE0-502C-4E94-9303-EB01C87664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FAA5-B13E-4553-BF5D-C5E66BD5A4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E55B-868C-4F46-BB8B-5FD75757E5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9A65-F8C2-418F-8992-6CB83CDAD0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0573-80B9-4B7A-ABBB-221E4B9178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2BE4-7B80-42DA-A6F6-F4372BDA92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0320-ECBF-4D6A-B00F-E155853D7C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8937-9CED-4DFD-A637-22B9EDB7ED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4A87-3009-45CC-A2A7-461A8A7D00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E09-1C60-4EB9-8891-2352038C3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CE6-6BFE-41B5-9D39-473850DF3D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164-8933-4CA9-B393-71BB9F6125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FD3-44AE-489C-9740-7D0A58D7E3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CA7-6B66-4501-9C58-38F1FA1A19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780-9EF0-40EF-931E-092CAF9E74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DAE-0D0E-47AA-B649-B2EBFEBB7B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DC3-C77C-4579-A6B2-B4C7E99DF9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633-DC0D-4320-B2DF-640FEB6932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467-5347-4649-A12A-44496F88D9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D24-0D57-47E8-B2B7-88D01A2AD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83F-0C70-484B-9B71-AED75607E4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BD1C9-4B77-4CFB-8BBF-D27F5EABF8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E2B2D-AD00-4781-B575-119925C96B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39E72-6665-489C-8A82-BB0BF8D028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E5801-061F-4EC5-B1EA-A8A829455E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E6FE-7510-49AF-BA17-D917240BFA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D61F-3737-430E-866B-2342D866ED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2D1BF-5B9F-4642-A173-A21CCB0B7A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1823-8D4F-40A8-A82C-2B334C16B2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7993-6C3B-483D-B19D-5E12C77AA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30CBF-D3C7-4EA6-8162-BE7EB35236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1291-112D-4B22-A474-C1B1670D7B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A6F51-18FD-44C8-BD8D-C1482C298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E1DBA22A-4D1F-4C1D-8B71-75C8EF91243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47EE945F-9E76-468A-9D96-A3E4764C529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D78D23C-573D-4CC1-93C0-411201D51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44B84A4A-1B5C-4B7F-9A52-EA83E090A9F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92092C84-A80B-4CD2-BDB4-C311225AC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30757CF5-D7A2-4864-A17B-AB77BB266C1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26451EE-610F-4280-B93B-DBE27D50E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F225C76C-CF56-499A-8E00-E1AB18B5996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A9AFB6AA-A919-41EA-96D8-DB717B176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ng the Interne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o the Curri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ag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mapped (originally for W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apsulated Post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ble Documen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ure (originally for Ma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ged Image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Interchang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Photographic Experts Grou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Programs &amp;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d browser ver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fari, Firefox, Internet Explor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rea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Read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ing audio/video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ie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ickTim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tion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Flas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le Transfer Op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 attach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– File Transfer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fg08_01800"/>
          <p:cNvPicPr/>
          <p:nvPr/>
        </p:nvPicPr>
        <p:blipFill>
          <a:blip r:embed="rId1"/>
          <a:stretch/>
        </p:blipFill>
        <p:spPr>
          <a:xfrm>
            <a:off x="4267080" y="160020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Web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r to house the web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 with school or district for procedures and permis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veats When Creating Web P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sharing of pers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photographs and large grap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web page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 Page Development Seque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and 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ages with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mages and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links and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nter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in a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 (upload)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evaluation comments, revise, and mainta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iteria for Evaluating Web Pages and Websit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structure and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text and/or graphic li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vis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nav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 Web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riteria in the form of rubrics that describe desired qualities in each of several asp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8.6 and Table 8.7 on p.266–2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gayu: Adventure Learning in Chukotka,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Activities Integration Plan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curriculum-related purpose of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Internet enhance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ill students use online resourc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students have the necessary skil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have the necessary time and support for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Web-Based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en pals (keypa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mentor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(or virtual)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ubli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produc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-based learning (PB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studen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fo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for information literacy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earning problems and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collaboration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ultural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Support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, announcement, an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summaries and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s of past and current studen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development ce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the Qualit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bric for Evaluating WebQues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able 8.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elements that apply to most web-based 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Author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 and other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cript in Adob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las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, Programs, and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ring resources from a website to your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4:28:20Z</dcterms:created>
  <dc:creator>Terence W. Cavanaugh</dc:creator>
  <dc:description/>
  <dc:language>en-US</dc:language>
  <cp:lastModifiedBy>UWALLHO</cp:lastModifiedBy>
  <dcterms:modified xsi:type="dcterms:W3CDTF">2009-08-14T18:05:14Z</dcterms:modified>
  <cp:revision>64</cp:revision>
  <dc:subject>Integrating the Internet into the Curriculum</dc:subject>
  <dc:title>PowerPoint Presentation</dc:title>
</cp:coreProperties>
</file>