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3E772-76C1-4AB7-91A8-B6D7E649AC0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7838D-68B5-47D9-A8A1-B8A88278E0A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4B004-F280-4306-86F5-2C5D8218D7B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AB78A-AD61-42E6-B6F1-09F5F451D6E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13DD7-DF53-4C0A-AE87-DA262B9EF0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282FB-330B-4AB5-9843-95E07EF6784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4F0A9-52F7-4B6F-883D-858E9B735EC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F8508-0C63-455C-8592-8AB0A05B587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D6696-2A16-47BE-875A-110C6BEFB16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06B78-5214-471E-AE41-8F12A7B84EA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B82B1-F48B-413B-9597-3C9A3BFB789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3FC7F-E5D8-4094-B778-92170B49675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F4310-8FFE-4E5C-9B52-34BB70E11EF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79696-7F2C-4567-96A0-D63123AEE93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7C18E-785D-45FF-A073-9941BCBA0B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E19EC-EAFD-4F8B-8FDF-DAF4DD6F5FA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CDB6D-6C13-4AA3-859E-FD802C47B68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5C9DE-9BA4-4BD4-B9E3-A0B3E23B0BD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6D710-F5B0-4C83-81D5-2DB1BCB8EBF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A2D99-AF17-445A-809B-D4A81FE15F5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7AEBE-B5A9-4F14-8048-855B0A8D11F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64EA6-BDCD-44AC-8C61-DA7DBD6BB4A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D53C7-5CC5-46CE-A8A7-390E0863B36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21190-E00D-49D0-B14B-6F67A40E4E7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115C-14DD-4151-BFB1-02F52B9CB0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3E6B-0F2F-4741-B048-A5FFCB55913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FCBF-1EE5-4A9F-A9FF-FC58263D587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AAF4-33D0-49B8-90D4-FE5A9009EB1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9A25-94C9-4BA3-8B13-F5BED794647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867A-E5D7-4B12-BEEC-82A2027518E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BACD-AE5F-42B2-809B-BDDBBC079CE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F6FE-8BD1-4E4A-8678-BB2C84D4A9A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76DA-C799-4409-9E9B-0955EAA5B35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1B79-32DD-4E98-94EA-99537B26E20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C3DF-0DDD-407D-9464-B6B0472852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67C1-1E11-4E5D-A08D-3332ADDEA3F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964B3F-59AC-41AA-9B5D-E41FDB8EDAE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C2F72-F650-4B2A-8F1C-01F4A45DC81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3BF3F-15F1-4D33-A103-7DEC698C43E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3A353-8D31-40EC-A780-6CA1E8F5BC7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CB1AB-8E29-416C-885B-F9D59E231F0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1E689-29AF-4115-8044-1C71029DE85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BB90B-9482-43E5-9FE3-2C54D0CEFE0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4229C1-1BC9-4AE1-AA21-F3E6CCAE801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9BB3B6-8C6A-4C54-AD26-DD807B9A9E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A6D7F-5A11-4247-A225-1ADE2CCD44D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5A965-B584-47D4-95F2-16EF599DE64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81129E-9505-41CD-9E4E-ABBF37B50E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 &amp; Aaron H. Doer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8.</a:t>
            </a:r>
            <a:fld id="{901787CC-B259-4CB6-A32C-CF74EC9EF73B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026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8.</a:t>
            </a:r>
            <a:fld id="{2F7021B1-F50E-4B00-A6BF-B4CD63AD0BB9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F8A5D65A-9533-4E43-851D-C9EFED3D19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8.</a:t>
            </a:r>
            <a:fld id="{097F1510-DFE4-422B-BBE8-EDF9CE425521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B7003A11-6BD5-47DB-9408-6DB90A8209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8.</a:t>
            </a:r>
            <a:fld id="{8A6B9347-8E7B-4D00-BC17-4E41D1EB7D1F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CEFF4FE2-2B47-458E-9E6C-4BE4705504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8.</a:t>
            </a:r>
            <a:fld id="{2E73BFBC-2E43-43EF-A287-9EDB1410C7E3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fld id="{EE8E96F6-5108-450C-85B8-1DFBED9321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Chapter 8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grating the Interne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o the Curri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"/>
          <p:cNvSpPr/>
          <p:nvPr/>
        </p:nvSpPr>
        <p:spPr>
          <a:xfrm>
            <a:off x="5334120" y="6537240"/>
            <a:ext cx="358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© 2010 Pearson Education, Inc. 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8394840" y="6543720"/>
            <a:ext cx="596880" cy="2221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7467480" y="228600"/>
            <a:ext cx="1435320" cy="18288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228600" y="4724280"/>
            <a:ext cx="8534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1749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is multimedia product and its contents are protected under copyright law. The following are prohibited by la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y public performance or display, including transmission of any image over a networ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reparation of any derivative work, including the extraction, in whole or in part, of any imag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y rental, lease, or lending of the pr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ownloading Imag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mage Form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374920"/>
            <a:ext cx="8229600" cy="37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59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M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tmapped (originally for Wi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59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P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capsulated PostScrip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59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D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rtable Documen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59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IC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icture (originally for Ma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59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gged Image F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59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I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phics Interchange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59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PE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oint Photographic Experts Group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ownloading Programs &amp; Plug-i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d browser vers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afari, Firefox, Internet Explore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DF rea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obe Reade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eaming audio/video player plug-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alPlay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vie player plug-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QuickTim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imation plug-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obe Flash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lay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ile Transfer Op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3581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ail attach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TP – File Transfer Protoc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6" descr="fg08_01800"/>
          <p:cNvPicPr/>
          <p:nvPr/>
        </p:nvPicPr>
        <p:blipFill>
          <a:blip r:embed="rId1"/>
          <a:stretch/>
        </p:blipFill>
        <p:spPr>
          <a:xfrm>
            <a:off x="4267080" y="1600200"/>
            <a:ext cx="4572000" cy="2889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d Web Development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 development softw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rom Google Sites (simple) to Adobe Dreamweaver (more complex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TP softw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less using a service such as Google Si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er to house the webs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less using a service such as Google Si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eck with school or district for procedures and permis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aveats When Creating Web Pag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mit sharing of personal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mit photographs and large graph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ress web page criter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eb Page Development Sequen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n and storybo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ages with tex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ert images and med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ert links and fra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ert interactive el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st in a brows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blish (upload) the s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ather evaluation comments, revise, and maintain the s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iteria for Evaluating Web Pages and Website Desig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 structure and organ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r text and/or graphic lin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 visual desig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sy naviga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valuating Student Web Produc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criteria in the form of rubrics that describe desired qualities in each of several aspe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e Table 8.6 and Table 8.7 on p.266–26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echnology Integration Example:</a:t>
            </a: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gayu: Adventure Learning in Chukotka, Russia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s 1-2: TPACK &amp; relative advant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3: Objectives and Assess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4: Integration Strateg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5: Instructional Enviro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6: Evaluate and Revi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eb-Based Activities Integration Plan Ques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is the curriculum-related purpose of the activit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es the Internet enhance the activit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will students use online resource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students have the necessary skill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I have the necessary time and support for the activit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ypes of Web-Based Activiti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nic pen pals (keypal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nic mentoring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nic (or virtual) field tri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nic publish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product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blem-based learning (PBL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al action proje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tegration Strategi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ort for student resear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tivation for wri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actice for information literacy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sual learning problems and sol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ment of collaboration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cultural experi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ebsite Support Func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ject overview, announcement, and appl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utorial instru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ormation summaries and exch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ion and sup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plays of past and current student 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ject development cen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ssessing the Quality of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eb-Based Less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ubric for Evaluating WebQues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Table 8.4)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s elements that apply to most web-based less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ebsite Authoring Too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TM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RM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L and other programming langu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ionScript in Adob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las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 development softw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rom Google Sites (simple) to Adobe Dreamweaver (more complex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ownloading Images, Programs, and Plug-i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ferring resources from a website to your compu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ag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gram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ug-i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04:28:20Z</dcterms:created>
  <dc:creator>Terence W. Cavanaugh</dc:creator>
  <dc:description/>
  <dc:language>en-US</dc:language>
  <cp:lastModifiedBy>UWALLHO</cp:lastModifiedBy>
  <dcterms:modified xsi:type="dcterms:W3CDTF">2009-08-14T18:05:14Z</dcterms:modified>
  <cp:revision>64</cp:revision>
  <dc:subject>Integrating the Internet into the Curriculum</dc:subject>
  <dc:title>PowerPoint Presentation</dc:title>
</cp:coreProperties>
</file>