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8205-24EF-448A-B87C-0C6F608E8D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CFC9-D2C2-4A0B-A414-DF96593F0F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714C-400A-49CB-86B2-C4323CD0BD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A490-4345-4873-A14F-8E43DE0BD5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9800-EA7D-4F85-89DE-3AD23F76BE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C763-5897-498F-BEC7-58AFB61E41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6A29-8EEF-4426-BB4D-0135559668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A7233-26E5-4E05-9001-8DDAAB5DA4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990B-06DC-4FA4-B123-2DA529856F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6770-E259-47F3-BD46-8563BC677B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B6C7-1C8F-4506-BA31-6D391925AC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B032-34BA-4282-9138-FF95AF985C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87F4-0500-43CE-ABD6-07B7831DC0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F65F5-65CB-4E02-A38C-6085EF7D89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7E45-E336-472A-8606-10C3E5866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2FDC-AA02-480A-ADBA-62DBE1EC0C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C19B6-148E-4F34-AA0C-2853782DF5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FDD3-A2CF-410B-8D59-73A64EDAE5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63CAE-174C-47B1-8CC3-15E0A2ECF3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66BCD-EB1C-4822-BB2A-5CDD980347E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8F16-01DC-474B-90A6-EA874BDECE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DF77-E84B-4B54-B7DD-11F4B7A126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79BA1-4470-4FFF-907B-C2D519AC27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A9B1-ECEA-46E3-B52A-C688B0199F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7C2A-55A1-409E-A472-B98740444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703-AFD2-4909-853D-2EDFC6FBC3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AB4-7306-43F8-98BB-C57CC0BAAA8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C3A-BBF0-462E-BEC1-EFBCB82AC21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9C5F-4F50-469C-90B2-6542E0A00A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69D8-C70B-4AE7-8162-B7A06DE79C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939-93E3-4B4D-B770-502EE69B29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C19-D13B-4464-B15C-0F47D07FAF8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A0A-E3E3-49C6-9603-173AD923BC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E7A-3765-4FD8-854E-79DC5E7911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AA6-6465-4948-9D61-735F5A83E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817-D37F-478E-B058-33DB9919C28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6E050-81F2-4513-87EC-AF374EA8D73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AFD2-2AA7-4051-8081-3504C3AFAAA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FBEDB0-64B0-40A4-9AB7-1FF9DAD0E9A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B71FD-91CE-4D3B-983D-3D4AAA5943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C1477-6D9B-49BD-A78D-1C46E1FB07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35E5A-A968-443F-99A6-FF195983B32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DB1EF-7361-420A-B27E-CD4B33617B4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2E1F7-D7A8-4811-A758-FFC098C895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3ED3C-2587-4780-B6C7-937246EB0B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4CC8E-55C5-4A9C-B362-979614B1B06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EB3EA-D759-4285-B9E3-8869E40A2A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7304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CEB91-E884-4408-9B9E-3AF95E53E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304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 &amp; Aaron H. Doer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9B13B0B6-D426-42C2-B528-9C4240E64A40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026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14F0F73C-98CD-4EB0-A9CB-73DB1C7D17DD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BE1157FA-70C1-4982-9415-13B09B6622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E075EE30-5724-4A5B-B36E-55995AF90F4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158C4A49-F781-447D-9885-68DEA7B122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6387F681-A505-47E6-B4ED-F436348907D3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fld id="{F462492C-1724-43E8-8DB8-219DC008E1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CompanionWebSite Back"/>
          <p:cNvPicPr/>
          <p:nvPr/>
        </p:nvPicPr>
        <p:blipFill>
          <a:blip r:embed="rId2"/>
          <a:srcRect l="0" t="17280" r="0" b="0"/>
          <a:stretch/>
        </p:blipFill>
        <p:spPr>
          <a:xfrm>
            <a:off x="0" y="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4"/>
          <p:cNvSpPr/>
          <p:nvPr/>
        </p:nvSpPr>
        <p:spPr>
          <a:xfrm>
            <a:off x="457200" y="6095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04384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M. D. Roblyer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 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Integrating Educational Technology into Teaching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, 5/E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Copyright ©2010 by Pearson Education, Inc.</a:t>
            </a:r>
            <a:br>
              <a:rPr sz="900"/>
            </a:br>
            <a:r>
              <a:rPr b="0" lang="en-US" sz="900" spc="-1" strike="noStrike">
                <a:solidFill>
                  <a:srgbClr val="808080"/>
                </a:solidFill>
                <a:latin typeface="Verdana"/>
              </a:rPr>
              <a:t>All rights reserved.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 </a:t>
            </a:r>
            <a:r>
              <a:rPr b="0" i="1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	</a:t>
            </a:r>
            <a:r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8.</a:t>
            </a:r>
            <a:fld id="{21BBF5D8-8608-4251-9C74-644ED228DCBF}" type="slidenum">
              <a:rPr b="0" lang="en-US" sz="900" spc="-1" strike="noStrike">
                <a:solidFill>
                  <a:srgbClr val="808080"/>
                </a:solidFill>
                <a:latin typeface="Verdana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fld id="{B41C3FC5-6D73-44EF-8994-4DCD90AB1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grating the Interne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o the Curri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65372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10 Pearson Education, Inc. 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94840" y="6543720"/>
            <a:ext cx="596880" cy="2221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43532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72428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174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public performance or display, including transmission of any image over a networ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eparation of any derivative work, including the extraction, in whole or in part, of any imag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174960">
              <a:lnSpc>
                <a:spcPct val="80000"/>
              </a:lnSpc>
              <a:spcBef>
                <a:spcPts val="3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ag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M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tmapped (originally for Wi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capsulated Post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rtable Documen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ture (originally for Ma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gged Image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ics Interchange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59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oint Photographic Experts Grou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Programs &amp;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d browser ver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fari, Firefox, Internet Explor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DF rea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Reade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ing audio/video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ie player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ickTim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tion plug-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obe Flas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lay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ile Transfer Op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ail attach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– File Transfer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fg08_01800"/>
          <p:cNvPicPr/>
          <p:nvPr/>
        </p:nvPicPr>
        <p:blipFill>
          <a:blip r:embed="rId1"/>
          <a:stretch/>
        </p:blipFill>
        <p:spPr>
          <a:xfrm>
            <a:off x="4267080" y="1600200"/>
            <a:ext cx="4572000" cy="288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d Web Developm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TP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er to house the web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less using a service such as Google Si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ck with school or district for procedures and permis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veats When Creating Web Pag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sharing of personal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 photographs and large graph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web page cri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 Page Development Seque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 and storybo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ages with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mages and med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links and fr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 interactive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in a brow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blish (upload)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her evaluation comments, revise, and maintain th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riteria for Evaluating Web Pages and Website Desig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structure and organ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r text and/or graphic li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visual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nav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ng Student Web Produc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criteria in the form of rubrics that describe desired qualities in each of several asp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8.6 and Table 8.7 on p.266–2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chnology Integration Example: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gayu: Adventure Learning in Chukotka,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s 1-2: TPACK &amp; relative 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3: Objectives and Assess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4: Integration Strate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5: Instructional Environ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6: Evaluate and Rev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Activities Integration Plan Ques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curriculum-related purpose of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the Internet enhance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ill students use online resourc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students have the necessary skill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I have the necessary time and support for the activi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ypes of Web-Based Activit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en pals (keypal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mentor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(or virtual) field tr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publi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product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-based learning (PB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action pro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 for student resear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 fo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 for information literacy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sual learning problems and sol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ment of collaboration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cultural experi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Support Func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overview, announcement, and appl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torial i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summaries and ex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and sup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s of past and current student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 development cen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ssessing the Qualit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-Based Less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ubric for Evaluating WebQues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Table 8.4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elements that apply to most web-based less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ebsite Authoring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R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L and other programming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cript in Adob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las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 development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om Google Sites (simple) to Adobe Dreamweaver (more complex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ownloading Images, Programs, and Plug-i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ring resources from a website to your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ag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4:28:20Z</dcterms:created>
  <dc:creator>Terence W. Cavanaugh</dc:creator>
  <dc:description/>
  <dc:language>en-US</dc:language>
  <cp:lastModifiedBy>UWALLHO</cp:lastModifiedBy>
  <dcterms:modified xsi:type="dcterms:W3CDTF">2009-08-14T18:05:14Z</dcterms:modified>
  <cp:revision>64</cp:revision>
  <dc:subject>Integrating the Internet into the Curriculum</dc:subject>
  <dc:title>PowerPoint Presentation</dc:title>
</cp:coreProperties>
</file>