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0CAB-0233-4B1E-8C6E-77B0A6DD5E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AA4B-81DA-4AB9-AF2F-87B5E4F3B7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25C5-B710-4E60-970D-328F6D8ED8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BB60-F9A8-4B6C-B216-025044F310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5414-B3A7-44A3-BC2E-324F00418B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ED95-7970-4690-B114-1C059C8C8E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0DCC-9D82-4571-AA1A-F026A6A1B9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9940-2B23-4F9B-BBDF-1D691093D1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E7D3-645E-4B60-857A-8E9B3598B2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9E5F-CAD2-482A-8DAD-D196E69C30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7C22-B326-4D8B-906E-A5A4C49453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7557-1F24-4A34-A478-E91930B847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C937A-722E-435E-91D5-73F133B323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A29F-EBA6-45D8-B01F-6BA2D66928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DC6F-4893-4F02-918C-52CE291D0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68DE-86B0-4DAC-8773-CB590E2EF2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3140-37ED-41C3-BFAB-8458B4BC2B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CDF4-405A-4B21-B97F-D4159831CD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B307-3AA1-46E9-8C7D-A8BF5C9A2F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6E9D-DA47-4230-83ED-27BC176B47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1527-B846-456C-8899-3F0C3CCC16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CCD1-81AF-46FD-A6B4-849E2D1C53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4432-8F1E-48C1-8F55-F72EC43097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2294-503D-4466-9836-2D5615CD14F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27E-30C5-4795-92F3-9E0748913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9E0-6FB2-4373-B7C1-6A2FFE6988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78A-4ABA-4A4F-AC4E-CA1D76BB56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FD6-1334-4634-B02D-C44032C27D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ED0-E6E0-4291-BA45-EEEE3FFDC4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17D-839C-4337-843D-9019975D10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266-758D-4027-850D-2FE9A4B153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64D-D9D6-4F84-AA63-0DCB0C7604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1FA-69E8-4B0A-B80E-C57DB21C2C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C87-61FE-45EB-9B5B-E5D12750C1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236-BB4B-406C-9D73-E0C77A488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772-6B0B-4620-9767-E2F1804CF4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FB858-83BE-42ED-BCB6-559C798B0A2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A8C2F-C81B-488E-8B89-6BF993F2E22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71A93-DAF7-4A32-A7C8-72D37296F6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B30B3-3FBD-4871-8FDC-EDF5D1429F4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0D754-AB2F-4BC0-AF0F-B70268991C0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DA88F-CA82-4CB8-9A58-F62371215A6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BAD3F-E4F9-470C-A4A8-62AE5F92DF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17EA4-54D8-495A-8F1F-7E57882FBC6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04105-5BAC-4FB2-A32E-937A991F1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6062D-DFF3-40B2-AA13-C1CA4338B52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1E1A3-9610-4831-A0BC-519F63EE3F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93017-5EEA-49EC-B806-452BE7F01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2020EBC1-49A4-46AE-87F0-CE0FBD06302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B15448DF-4248-48BE-8782-FC71C0AB4D6E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BF3946CA-D321-482E-86D4-8FBD54B49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1447213F-4F20-47D3-BB20-07EC592259B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E1E2F987-3169-45C1-8ABD-49918C0201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9E91CD3F-3C57-47B4-9B02-2267FEBCFEE1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FF882201-504A-48CF-9B84-BB952CF255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E051D511-2AA3-443D-8F6F-ED95E6B95B48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A8318AA4-DFE8-4F18-B99E-02365A0EC2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grating the Interne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o the Curri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Im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ag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374920"/>
            <a:ext cx="822960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tmapped (originally for Wi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apsulated Post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able Documen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ture (originally for Ma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ged Image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Interchange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PE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t Photographic Experts Grou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Programs &amp; Plug-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d browser ver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fari, Firefox, Internet Explore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 rea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obe Reade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ing audio/video player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lPlay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ie player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ickTim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tion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obe Flas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lay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le Transfer Op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 attach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TP – File Transfer Protoc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fg08_01800"/>
          <p:cNvPicPr/>
          <p:nvPr/>
        </p:nvPicPr>
        <p:blipFill>
          <a:blip r:embed="rId1"/>
          <a:stretch/>
        </p:blipFill>
        <p:spPr>
          <a:xfrm>
            <a:off x="4267080" y="1600200"/>
            <a:ext cx="4572000" cy="28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d Web Develop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development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Google Sites (simple) to Adobe Dreamweaver (more complex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TP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less using a service such as Google Si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er to house the web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less using a service such as Google Si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ck with school or district for procedures and permis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veats When Creating Web P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sharing of person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photographs and large graph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web page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 Page Development Seque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and stor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ages with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images and med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links and fr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interactiv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in a brow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sh (upload)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her evaluation comments, revise, and maintain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iteria for Evaluating Web Pages and Website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structure and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r text and/or graphic li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visu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nav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udent Web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criteria in the form of rubrics that describe desired qualities in each of several asp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8.6 and Table 8.7 on p.266–26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gayu: Adventure Learning in Chukotka,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-Based Activities Integration Plan Ques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curriculum-related purpose of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the Internet enhance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will students use online resourc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students have the necessary skill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I have the necessary time and support for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Web-Based Activ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pen pals (keypal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mentor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(or virtual) field tr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publis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product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-based learning (PB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action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for studen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 for wri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for information literacy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learning problems and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ment of collaboration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cultural exper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site Support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overview, announcement, and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summaries and ex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 an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s of past and current student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development cen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essing the Quality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-Based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ubric for Evaluating WebQues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Table 8.4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elements that apply to most web-based les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site Authoring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R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L and other programm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cript in Adob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las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development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Google Sites (simple) to Adobe Dreamweaver (more complex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Images, Programs, and Plug-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ring resources from a website to your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4:28:20Z</dcterms:created>
  <dc:creator>Terence W. Cavanaugh</dc:creator>
  <dc:description/>
  <dc:language>en-US</dc:language>
  <cp:lastModifiedBy>UWALLHO</cp:lastModifiedBy>
  <dcterms:modified xsi:type="dcterms:W3CDTF">2009-08-14T18:05:14Z</dcterms:modified>
  <cp:revision>64</cp:revision>
  <dc:subject>Integrating the Internet into the Curriculum</dc:subject>
  <dc:title>PowerPoint Presentation</dc:title>
</cp:coreProperties>
</file>